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2675-5BC4-42E9-9C53-71C72186B8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358920" y="360360"/>
            <a:ext cx="2400120" cy="18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новление современной школы происходит в прямой зависимости от педагогического творчества учителя. Профессиональное развитие учителя – это рост, становление, интеграция и реализация в педагогическом труде профессиональных значимых качеств и способностей, профессиональных знаний и умений, но главное – формирование у него способности к самооценке – рефлексии. Портфолио учителя – это способ фиксирования, накопления и оценки творческих достижений учителя; это комплект документов, регламентирующих его деятельность, формирующий рефлексию его соб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ртфоли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переводе с итальянского означает “папка с документами”, “папка специалиста”. Портфолио позволяет учитывать результаты, достигнутые учителем в разнообразных видах деятельности: учебной, творческой, методической, исследовательс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а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создания портфоли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едставить отчет о работе учителя по теме самообразования, о характере его деятельности, проследить творческий и профессиональный рост учителя, способствовать формированию навыков рефлексии (самооцен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0D23-CE52-48BC-95C0-07C4358C92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358920" y="360360"/>
            <a:ext cx="2400120" cy="18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разделе находятся документы, регламентирующие работу педагога (Закон об образовании в РФ, инструктивно-методические письма,  Положения о едином орфографическом режиме,  о десятибалльной системе и безотметочном обучении 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0CE9-08D8-4CD6-91C3-39DA0B7E48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358920" y="360360"/>
            <a:ext cx="2400120" cy="18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раздел представляет соб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рание различных творческих, проектных, исследовательских работ учителя, а также описание его авторских методик, разработок, програм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его творческой активности: участие в научных конференциях, конкурсах, педагогических чтениях, прохождение курсов повышения квалификации и др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A187-764A-4BCA-9A01-B0E0A547C8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358920" y="360360"/>
            <a:ext cx="2400120" cy="18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раздел состоит из разнообразных дидактических материалов по анализу, оценке и самооценке педагог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358920" algn="just"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и личности учителя, педагогической деятельности, педагогического общ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358920" algn="just"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и качества образовательного процесса (срезы знаний, итоги успеваемости, результаты олимпиад, конкурсов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D559-4A82-44F4-B6B9-18D1744F93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358920" y="360360"/>
            <a:ext cx="2400120" cy="18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раздел включает в себя характеристики отношения педагога к различным видам деятельности, представленные администрацией гимназии, коллегами, родителями, а так же самоанализ деятельности педаг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3C03-1311-4210-BB80-9EF8A4EC30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358920" y="360360"/>
            <a:ext cx="2400120" cy="18003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ы к построению “Портфолио” могут быть разнообразными, в зависимости от индивидуальных особенностей учителя. Важно, чтобы учитель проанализировал свою работу, собственные успехи, объективно оценил свои возможности и увидел способы преодоления трудностей и достижения более высоких результа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й портфель может быть представлен файловой папкой. Презентация или публичная защита портфеля проводится во время творческого отчета или аттестации педагога. Материалы методического портфолио становятся основой для анализа деятельности уч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34BD-2D7A-4F59-979F-3D90ECFFE7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DBFD-5CC2-4B3A-B524-B2208B77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920" y="1600200"/>
            <a:ext cx="88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920" y="3964320"/>
            <a:ext cx="88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B02B-3D28-4A18-82BE-F48F8DDD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920" y="1600200"/>
            <a:ext cx="432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2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920" y="3964320"/>
            <a:ext cx="432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800" y="3964320"/>
            <a:ext cx="432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42A-572D-4C97-B8AF-030F4828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920" y="1600200"/>
            <a:ext cx="2851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7760" y="1600200"/>
            <a:ext cx="2851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2600" y="1600200"/>
            <a:ext cx="2851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920" y="3964320"/>
            <a:ext cx="2851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7760" y="3964320"/>
            <a:ext cx="2851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2600" y="3964320"/>
            <a:ext cx="2851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D5BB-480A-40A6-84B1-C5B98C78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92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3CAD-126F-4627-8910-624C1B9F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92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B372-6FA5-401A-B2B2-01C6598D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920" y="1600200"/>
            <a:ext cx="432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2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8D6F-696F-44EB-B99B-4D1D4061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B656-A0CE-40D9-BE25-F5E0B362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920" y="274320"/>
            <a:ext cx="88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9D90-92DA-431F-A982-EC721385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920" y="1600200"/>
            <a:ext cx="432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2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920" y="3964320"/>
            <a:ext cx="432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380B-D8B9-4520-A2C5-87D4D611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920" y="1600200"/>
            <a:ext cx="432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2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800" y="3964320"/>
            <a:ext cx="432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8EAB-D1FE-44B9-A60C-BCE43DEF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920" y="1600200"/>
            <a:ext cx="432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2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920" y="3964320"/>
            <a:ext cx="88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CEBA-5D77-4EB7-8926-026A8E72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292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3F1A-AD03-4DCB-A637-33369CFB94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02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9" name="Группа 18"/>
          <p:cNvGrpSpPr/>
          <p:nvPr/>
        </p:nvGrpSpPr>
        <p:grpSpPr>
          <a:xfrm>
            <a:off x="644400" y="2427120"/>
            <a:ext cx="860400" cy="4067280"/>
            <a:chOff x="644400" y="2427120"/>
            <a:chExt cx="860400" cy="4067280"/>
          </a:xfrm>
        </p:grpSpPr>
        <p:sp>
          <p:nvSpPr>
            <p:cNvPr id="50" name="Прямоугольник 23"/>
            <p:cNvSpPr/>
            <p:nvPr/>
          </p:nvSpPr>
          <p:spPr>
            <a:xfrm rot="16200000">
              <a:off x="-892800" y="4126680"/>
              <a:ext cx="4056840" cy="6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1" name="Прямоугольник 24" descr=""/>
            <p:cNvPicPr/>
            <p:nvPr/>
          </p:nvPicPr>
          <p:blipFill>
            <a:blip r:embed="rId2"/>
            <a:stretch/>
          </p:blipFill>
          <p:spPr>
            <a:xfrm>
              <a:off x="644400" y="2427120"/>
              <a:ext cx="860400" cy="406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Группа 19" descr=""/>
          <p:cNvPicPr/>
          <p:nvPr/>
        </p:nvPicPr>
        <p:blipFill>
          <a:blip r:embed="rId3"/>
          <a:stretch/>
        </p:blipFill>
        <p:spPr>
          <a:xfrm>
            <a:off x="1457280" y="2352600"/>
            <a:ext cx="7089840" cy="42134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0"/>
          <p:cNvSpPr/>
          <p:nvPr/>
        </p:nvSpPr>
        <p:spPr>
          <a:xfrm>
            <a:off x="642960" y="1285920"/>
            <a:ext cx="1720800" cy="17208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02720" cy="115884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3" descr=""/>
          <p:cNvPicPr/>
          <p:nvPr/>
        </p:nvPicPr>
        <p:blipFill>
          <a:blip r:embed="rId2"/>
          <a:stretch/>
        </p:blipFill>
        <p:spPr>
          <a:xfrm>
            <a:off x="450720" y="1341360"/>
            <a:ext cx="824256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02720" cy="1158840"/>
          </a:xfrm>
          <a:prstGeom prst="rect">
            <a:avLst/>
          </a:prstGeom>
          <a:ln w="0">
            <a:noFill/>
          </a:ln>
        </p:spPr>
      </p:pic>
      <p:pic>
        <p:nvPicPr>
          <p:cNvPr id="57" name="Группа 6" descr=""/>
          <p:cNvPicPr/>
          <p:nvPr/>
        </p:nvPicPr>
        <p:blipFill>
          <a:blip r:embed="rId2"/>
          <a:stretch/>
        </p:blipFill>
        <p:spPr>
          <a:xfrm>
            <a:off x="212760" y="1176480"/>
            <a:ext cx="485928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Группа 7" descr=""/>
          <p:cNvPicPr/>
          <p:nvPr/>
        </p:nvPicPr>
        <p:blipFill>
          <a:blip r:embed="rId3"/>
          <a:stretch/>
        </p:blipFill>
        <p:spPr>
          <a:xfrm>
            <a:off x="212760" y="2676600"/>
            <a:ext cx="485928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Группа 8" descr=""/>
          <p:cNvPicPr/>
          <p:nvPr/>
        </p:nvPicPr>
        <p:blipFill>
          <a:blip r:embed="rId4"/>
          <a:stretch/>
        </p:blipFill>
        <p:spPr>
          <a:xfrm>
            <a:off x="4071960" y="3297240"/>
            <a:ext cx="4859280" cy="909720"/>
          </a:xfrm>
          <a:prstGeom prst="rect">
            <a:avLst/>
          </a:prstGeom>
          <a:ln w="0">
            <a:noFill/>
          </a:ln>
        </p:spPr>
      </p:pic>
      <p:pic>
        <p:nvPicPr>
          <p:cNvPr id="60" name="Группа 9" descr=""/>
          <p:cNvPicPr/>
          <p:nvPr/>
        </p:nvPicPr>
        <p:blipFill>
          <a:blip r:embed="rId5"/>
          <a:stretch/>
        </p:blipFill>
        <p:spPr>
          <a:xfrm>
            <a:off x="212760" y="4175280"/>
            <a:ext cx="485928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Группа 10" descr=""/>
          <p:cNvPicPr/>
          <p:nvPr/>
        </p:nvPicPr>
        <p:blipFill>
          <a:blip r:embed="rId6"/>
          <a:stretch/>
        </p:blipFill>
        <p:spPr>
          <a:xfrm>
            <a:off x="212760" y="5748480"/>
            <a:ext cx="871848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Группа 11" descr=""/>
          <p:cNvPicPr/>
          <p:nvPr/>
        </p:nvPicPr>
        <p:blipFill>
          <a:blip r:embed="rId7"/>
          <a:stretch/>
        </p:blipFill>
        <p:spPr>
          <a:xfrm>
            <a:off x="4071960" y="4821120"/>
            <a:ext cx="4859280" cy="909720"/>
          </a:xfrm>
          <a:prstGeom prst="rect">
            <a:avLst/>
          </a:prstGeom>
          <a:ln w="0">
            <a:noFill/>
          </a:ln>
        </p:spPr>
      </p:pic>
      <p:pic>
        <p:nvPicPr>
          <p:cNvPr id="63" name="Группа 12" descr=""/>
          <p:cNvPicPr/>
          <p:nvPr/>
        </p:nvPicPr>
        <p:blipFill>
          <a:blip r:embed="rId8"/>
          <a:stretch/>
        </p:blipFill>
        <p:spPr>
          <a:xfrm>
            <a:off x="4071960" y="1773360"/>
            <a:ext cx="48592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133200" y="208080"/>
            <a:ext cx="8802720" cy="1218960"/>
          </a:xfrm>
          <a:prstGeom prst="rect">
            <a:avLst/>
          </a:prstGeom>
          <a:ln w="0">
            <a:noFill/>
          </a:ln>
        </p:spPr>
      </p:pic>
      <p:pic>
        <p:nvPicPr>
          <p:cNvPr id="65" name="Группа 8" descr=""/>
          <p:cNvPicPr/>
          <p:nvPr/>
        </p:nvPicPr>
        <p:blipFill>
          <a:blip r:embed="rId2"/>
          <a:stretch/>
        </p:blipFill>
        <p:spPr>
          <a:xfrm>
            <a:off x="285840" y="4035600"/>
            <a:ext cx="8504280" cy="933120"/>
          </a:xfrm>
          <a:prstGeom prst="rect">
            <a:avLst/>
          </a:prstGeom>
          <a:ln w="0">
            <a:noFill/>
          </a:ln>
        </p:spPr>
      </p:pic>
      <p:pic>
        <p:nvPicPr>
          <p:cNvPr id="66" name="Группа 9" descr=""/>
          <p:cNvPicPr/>
          <p:nvPr/>
        </p:nvPicPr>
        <p:blipFill>
          <a:blip r:embed="rId3"/>
          <a:stretch/>
        </p:blipFill>
        <p:spPr>
          <a:xfrm>
            <a:off x="201600" y="5029200"/>
            <a:ext cx="1414440" cy="1573200"/>
          </a:xfrm>
          <a:prstGeom prst="rect">
            <a:avLst/>
          </a:prstGeom>
          <a:ln w="0">
            <a:noFill/>
          </a:ln>
        </p:spPr>
      </p:pic>
      <p:pic>
        <p:nvPicPr>
          <p:cNvPr id="67" name="Группа 10" descr=""/>
          <p:cNvPicPr/>
          <p:nvPr/>
        </p:nvPicPr>
        <p:blipFill>
          <a:blip r:embed="rId4"/>
          <a:stretch/>
        </p:blipFill>
        <p:spPr>
          <a:xfrm>
            <a:off x="1457280" y="5029200"/>
            <a:ext cx="1682640" cy="1573200"/>
          </a:xfrm>
          <a:prstGeom prst="rect">
            <a:avLst/>
          </a:prstGeom>
          <a:ln w="0">
            <a:noFill/>
          </a:ln>
        </p:spPr>
      </p:pic>
      <p:pic>
        <p:nvPicPr>
          <p:cNvPr id="68" name="Группа 11" descr=""/>
          <p:cNvPicPr/>
          <p:nvPr/>
        </p:nvPicPr>
        <p:blipFill>
          <a:blip r:embed="rId5"/>
          <a:stretch/>
        </p:blipFill>
        <p:spPr>
          <a:xfrm>
            <a:off x="2955960" y="5029200"/>
            <a:ext cx="1542960" cy="1573200"/>
          </a:xfrm>
          <a:prstGeom prst="rect">
            <a:avLst/>
          </a:prstGeom>
          <a:ln w="0">
            <a:noFill/>
          </a:ln>
        </p:spPr>
      </p:pic>
      <p:pic>
        <p:nvPicPr>
          <p:cNvPr id="69" name="Группа 12" descr=""/>
          <p:cNvPicPr/>
          <p:nvPr/>
        </p:nvPicPr>
        <p:blipFill>
          <a:blip r:embed="rId6"/>
          <a:stretch/>
        </p:blipFill>
        <p:spPr>
          <a:xfrm>
            <a:off x="4290840" y="5029200"/>
            <a:ext cx="1683000" cy="1573200"/>
          </a:xfrm>
          <a:prstGeom prst="rect">
            <a:avLst/>
          </a:prstGeom>
          <a:ln w="0">
            <a:noFill/>
          </a:ln>
        </p:spPr>
      </p:pic>
      <p:pic>
        <p:nvPicPr>
          <p:cNvPr id="70" name="Группа 13" descr=""/>
          <p:cNvPicPr/>
          <p:nvPr/>
        </p:nvPicPr>
        <p:blipFill>
          <a:blip r:embed="rId7"/>
          <a:stretch/>
        </p:blipFill>
        <p:spPr>
          <a:xfrm>
            <a:off x="5791320" y="5029200"/>
            <a:ext cx="1755720" cy="1573200"/>
          </a:xfrm>
          <a:prstGeom prst="rect">
            <a:avLst/>
          </a:prstGeom>
          <a:ln w="0">
            <a:noFill/>
          </a:ln>
        </p:spPr>
      </p:pic>
      <p:pic>
        <p:nvPicPr>
          <p:cNvPr id="71" name="Группа 14" descr=""/>
          <p:cNvPicPr/>
          <p:nvPr/>
        </p:nvPicPr>
        <p:blipFill>
          <a:blip r:embed="rId8"/>
          <a:stretch/>
        </p:blipFill>
        <p:spPr>
          <a:xfrm>
            <a:off x="7358040" y="5029200"/>
            <a:ext cx="1646280" cy="1573200"/>
          </a:xfrm>
          <a:prstGeom prst="rect">
            <a:avLst/>
          </a:prstGeom>
          <a:ln w="0">
            <a:noFill/>
          </a:ln>
        </p:spPr>
      </p:pic>
      <p:pic>
        <p:nvPicPr>
          <p:cNvPr id="72" name="Группа 38" descr=""/>
          <p:cNvPicPr/>
          <p:nvPr/>
        </p:nvPicPr>
        <p:blipFill>
          <a:blip r:embed="rId9"/>
          <a:stretch/>
        </p:blipFill>
        <p:spPr>
          <a:xfrm>
            <a:off x="500040" y="1176480"/>
            <a:ext cx="3144960" cy="2577960"/>
          </a:xfrm>
          <a:prstGeom prst="rect">
            <a:avLst/>
          </a:prstGeom>
          <a:ln w="0">
            <a:noFill/>
          </a:ln>
        </p:spPr>
      </p:pic>
      <p:pic>
        <p:nvPicPr>
          <p:cNvPr id="73" name="Группа 6" descr=""/>
          <p:cNvPicPr/>
          <p:nvPr/>
        </p:nvPicPr>
        <p:blipFill>
          <a:blip r:embed="rId10"/>
          <a:stretch/>
        </p:blipFill>
        <p:spPr>
          <a:xfrm>
            <a:off x="2651040" y="2206800"/>
            <a:ext cx="5853240" cy="828360"/>
          </a:xfrm>
          <a:prstGeom prst="rect">
            <a:avLst/>
          </a:prstGeom>
          <a:ln w="0">
            <a:noFill/>
          </a:ln>
        </p:spPr>
      </p:pic>
      <p:pic>
        <p:nvPicPr>
          <p:cNvPr id="74" name="Группа 5" descr=""/>
          <p:cNvPicPr/>
          <p:nvPr/>
        </p:nvPicPr>
        <p:blipFill>
          <a:blip r:embed="rId11"/>
          <a:stretch/>
        </p:blipFill>
        <p:spPr>
          <a:xfrm>
            <a:off x="2651040" y="1322280"/>
            <a:ext cx="5853240" cy="830520"/>
          </a:xfrm>
          <a:prstGeom prst="rect">
            <a:avLst/>
          </a:prstGeom>
          <a:ln w="0">
            <a:noFill/>
          </a:ln>
        </p:spPr>
      </p:pic>
      <p:pic>
        <p:nvPicPr>
          <p:cNvPr id="75" name="Группа 35" descr=""/>
          <p:cNvPicPr/>
          <p:nvPr/>
        </p:nvPicPr>
        <p:blipFill>
          <a:blip r:embed="rId12"/>
          <a:stretch/>
        </p:blipFill>
        <p:spPr>
          <a:xfrm>
            <a:off x="2639880" y="3067200"/>
            <a:ext cx="585180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02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77" name="Группа 5"/>
          <p:cNvGrpSpPr/>
          <p:nvPr/>
        </p:nvGrpSpPr>
        <p:grpSpPr>
          <a:xfrm>
            <a:off x="457200" y="1271520"/>
            <a:ext cx="6831000" cy="863640"/>
            <a:chOff x="457200" y="1271520"/>
            <a:chExt cx="6831000" cy="863640"/>
          </a:xfrm>
        </p:grpSpPr>
        <p:sp>
          <p:nvSpPr>
            <p:cNvPr id="78" name="Прямоугольник с двумя скругленными противолежащими углами 9"/>
            <p:cNvSpPr/>
            <p:nvPr/>
          </p:nvSpPr>
          <p:spPr>
            <a:xfrm>
              <a:off x="540720" y="1292400"/>
              <a:ext cx="6696720" cy="842760"/>
            </a:xfrm>
            <a:prstGeom prst="pi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9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57200" y="1271520"/>
              <a:ext cx="6831000" cy="65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Группа 20"/>
          <p:cNvGrpSpPr/>
          <p:nvPr/>
        </p:nvGrpSpPr>
        <p:grpSpPr>
          <a:xfrm>
            <a:off x="1143000" y="1857240"/>
            <a:ext cx="6831000" cy="1511280"/>
            <a:chOff x="1143000" y="1857240"/>
            <a:chExt cx="6831000" cy="1511280"/>
          </a:xfrm>
        </p:grpSpPr>
        <p:sp>
          <p:nvSpPr>
            <p:cNvPr id="81" name="Блок-схема: документ 21"/>
            <p:cNvSpPr/>
            <p:nvPr/>
          </p:nvSpPr>
          <p:spPr>
            <a:xfrm>
              <a:off x="1143000" y="1857240"/>
              <a:ext cx="6831000" cy="1511280"/>
            </a:xfrm>
            <a:prstGeom prst="flowChartDocument">
              <a:avLst/>
            </a:prstGeom>
            <a:solidFill>
              <a:srgbClr val="ffffff">
                <a:alpha val="90000"/>
              </a:srgbClr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Блок-схема: документ 6"/>
            <p:cNvSpPr/>
            <p:nvPr/>
          </p:nvSpPr>
          <p:spPr>
            <a:xfrm>
              <a:off x="1143000" y="1857240"/>
              <a:ext cx="6831000" cy="12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2200" rIns="142200" tIns="142200" bIns="142200" anchor="t">
              <a:noAutofit/>
            </a:bodyPr>
            <a:p>
              <a:pPr lvl="1" marL="227160" indent="-227160">
                <a:lnSpc>
                  <a:spcPct val="90000"/>
                </a:lnSpc>
                <a:spcAft>
                  <a:spcPts val="374"/>
                </a:spcAft>
                <a:buSzPct val="102792"/>
                <a:buBlip>
                  <a:blip r:embed="rId3"/>
                </a:buBlip>
                <a:tabLst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отзыв о творческой работе, выступлении на НПК, педагогических чтениях, педсовете и др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Группа 17"/>
          <p:cNvGrpSpPr/>
          <p:nvPr/>
        </p:nvGrpSpPr>
        <p:grpSpPr>
          <a:xfrm>
            <a:off x="1357200" y="2643120"/>
            <a:ext cx="6831000" cy="1511280"/>
            <a:chOff x="1357200" y="2643120"/>
            <a:chExt cx="6831000" cy="1511280"/>
          </a:xfrm>
        </p:grpSpPr>
        <p:sp>
          <p:nvSpPr>
            <p:cNvPr id="84" name="Блок-схема: документ 18"/>
            <p:cNvSpPr/>
            <p:nvPr/>
          </p:nvSpPr>
          <p:spPr>
            <a:xfrm>
              <a:off x="1357200" y="2648520"/>
              <a:ext cx="6831000" cy="1505880"/>
            </a:xfrm>
            <a:prstGeom prst="flowChartDocument">
              <a:avLst/>
            </a:prstGeom>
            <a:solidFill>
              <a:srgbClr val="ffffff">
                <a:alpha val="90000"/>
              </a:srgbClr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Блок-схема: документ 6"/>
            <p:cNvSpPr/>
            <p:nvPr/>
          </p:nvSpPr>
          <p:spPr>
            <a:xfrm>
              <a:off x="1357200" y="2643120"/>
              <a:ext cx="6831000" cy="12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2200" rIns="142200" tIns="142200" bIns="142200" anchor="t">
              <a:noAutofit/>
            </a:bodyPr>
            <a:p>
              <a:pPr lvl="1" marL="227160" indent="-227160">
                <a:lnSpc>
                  <a:spcPct val="90000"/>
                </a:lnSpc>
                <a:spcAft>
                  <a:spcPts val="374"/>
                </a:spcAft>
                <a:buSzPct val="102792"/>
                <a:buBlip>
                  <a:blip r:embed="rId4"/>
                </a:buBlip>
                <a:tabLst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рецензия на статью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Группа 14"/>
          <p:cNvGrpSpPr/>
          <p:nvPr/>
        </p:nvGrpSpPr>
        <p:grpSpPr>
          <a:xfrm>
            <a:off x="1590840" y="3409920"/>
            <a:ext cx="6831000" cy="1511280"/>
            <a:chOff x="1590840" y="3409920"/>
            <a:chExt cx="6831000" cy="1511280"/>
          </a:xfrm>
        </p:grpSpPr>
        <p:sp>
          <p:nvSpPr>
            <p:cNvPr id="87" name="Блок-схема: документ 15"/>
            <p:cNvSpPr/>
            <p:nvPr/>
          </p:nvSpPr>
          <p:spPr>
            <a:xfrm>
              <a:off x="1590840" y="3409920"/>
              <a:ext cx="6831000" cy="1511280"/>
            </a:xfrm>
            <a:prstGeom prst="flowChartDocument">
              <a:avLst/>
            </a:prstGeom>
            <a:solidFill>
              <a:srgbClr val="ffffff">
                <a:alpha val="90000"/>
              </a:srgbClr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Блок-схема: документ 6"/>
            <p:cNvSpPr/>
            <p:nvPr/>
          </p:nvSpPr>
          <p:spPr>
            <a:xfrm>
              <a:off x="1590840" y="3409920"/>
              <a:ext cx="6831000" cy="12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2200" rIns="142200" tIns="142200" bIns="142200" anchor="t">
              <a:noAutofit/>
            </a:bodyPr>
            <a:p>
              <a:pPr lvl="1" marL="227160" indent="-227160">
                <a:lnSpc>
                  <a:spcPct val="90000"/>
                </a:lnSpc>
                <a:spcAft>
                  <a:spcPts val="374"/>
                </a:spcAft>
                <a:buSzPct val="102792"/>
                <a:buBlip>
                  <a:blip r:embed="rId5"/>
                </a:buBlip>
                <a:tabLst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методический бюллетень на проведенные открытые урок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Группа 23"/>
          <p:cNvGrpSpPr/>
          <p:nvPr/>
        </p:nvGrpSpPr>
        <p:grpSpPr>
          <a:xfrm>
            <a:off x="1805040" y="4195800"/>
            <a:ext cx="6831000" cy="1511280"/>
            <a:chOff x="1805040" y="4195800"/>
            <a:chExt cx="6831000" cy="1511280"/>
          </a:xfrm>
        </p:grpSpPr>
        <p:sp>
          <p:nvSpPr>
            <p:cNvPr id="90" name="Блок-схема: документ 24"/>
            <p:cNvSpPr/>
            <p:nvPr/>
          </p:nvSpPr>
          <p:spPr>
            <a:xfrm>
              <a:off x="1805040" y="4195800"/>
              <a:ext cx="6831000" cy="1511280"/>
            </a:xfrm>
            <a:prstGeom prst="flowChartDocument">
              <a:avLst/>
            </a:prstGeom>
            <a:solidFill>
              <a:srgbClr val="ffffff">
                <a:alpha val="90000"/>
              </a:srgbClr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Блок-схема: документ 6"/>
            <p:cNvSpPr/>
            <p:nvPr/>
          </p:nvSpPr>
          <p:spPr>
            <a:xfrm>
              <a:off x="1805040" y="4195800"/>
              <a:ext cx="6831000" cy="12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2200" rIns="142200" tIns="142200" bIns="142200" anchor="t">
              <a:noAutofit/>
            </a:bodyPr>
            <a:p>
              <a:pPr lvl="1" marL="227160" indent="-227160">
                <a:lnSpc>
                  <a:spcPct val="90000"/>
                </a:lnSpc>
                <a:spcAft>
                  <a:spcPts val="374"/>
                </a:spcAft>
                <a:buSzPct val="102792"/>
                <a:buBlip>
                  <a:blip r:embed="rId6"/>
                </a:buBlip>
                <a:tabLst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заключение о качестве выполненной работы (творческой, исследовательской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Группа 26"/>
          <p:cNvGrpSpPr/>
          <p:nvPr/>
        </p:nvGrpSpPr>
        <p:grpSpPr>
          <a:xfrm>
            <a:off x="2019240" y="4981680"/>
            <a:ext cx="6831000" cy="1511280"/>
            <a:chOff x="2019240" y="4981680"/>
            <a:chExt cx="6831000" cy="1511280"/>
          </a:xfrm>
        </p:grpSpPr>
        <p:sp>
          <p:nvSpPr>
            <p:cNvPr id="93" name="Блок-схема: документ 27"/>
            <p:cNvSpPr/>
            <p:nvPr/>
          </p:nvSpPr>
          <p:spPr>
            <a:xfrm>
              <a:off x="2019240" y="4981680"/>
              <a:ext cx="6831000" cy="1511280"/>
            </a:xfrm>
            <a:prstGeom prst="flowChartDocument">
              <a:avLst/>
            </a:prstGeom>
            <a:solidFill>
              <a:srgbClr val="ffffff">
                <a:alpha val="90000"/>
              </a:srgbClr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Блок-схема: документ 6"/>
            <p:cNvSpPr/>
            <p:nvPr/>
          </p:nvSpPr>
          <p:spPr>
            <a:xfrm>
              <a:off x="2019240" y="4981680"/>
              <a:ext cx="6831000" cy="12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2200" rIns="142200" tIns="142200" bIns="142200" anchor="t">
              <a:noAutofit/>
            </a:bodyPr>
            <a:p>
              <a:pPr lvl="1" marL="227160" indent="-227160">
                <a:lnSpc>
                  <a:spcPct val="90000"/>
                </a:lnSpc>
                <a:spcAft>
                  <a:spcPts val="374"/>
                </a:spcAft>
                <a:buSzPct val="102792"/>
                <a:buBlip>
                  <a:blip r:embed="rId7"/>
                </a:buBlip>
                <a:tabLst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резюме, подготовленное педагогом, с оценкой собственных профессиональных достижени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02720" cy="115884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3" descr=""/>
          <p:cNvPicPr/>
          <p:nvPr/>
        </p:nvPicPr>
        <p:blipFill>
          <a:blip r:embed="rId2"/>
          <a:stretch/>
        </p:blipFill>
        <p:spPr>
          <a:xfrm>
            <a:off x="-6480" y="1195560"/>
            <a:ext cx="915696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6:59:47Z</dcterms:created>
  <dc:creator>Болотов</dc:creator>
  <dc:description/>
  <dc:language>en-US</dc:language>
  <cp:lastModifiedBy>Болотов</cp:lastModifiedBy>
  <dcterms:modified xsi:type="dcterms:W3CDTF">2007-08-27T17:12:08Z</dcterms:modified>
  <cp:revision>2</cp:revision>
  <dc:subject/>
  <dc:title>ПОРТФОЛИО УЧИТЕЛЯ</dc:title>
</cp:coreProperties>
</file>