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wmf" ContentType="image/x-wmf"/>
  <Override PartName="/ppt/media/image18.png" ContentType="image/png"/>
  <Override PartName="/ppt/media/image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31.wmf" ContentType="image/x-wmf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35.wmf" ContentType="image/x-wmf"/>
  <Override PartName="/ppt/media/image16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E5D-7CA4-4DC6-828A-E3E8C5E6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B78-A876-45FB-90EC-25925A6F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E2D-8241-478F-A37B-80130575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D6C-CB3E-4EB2-BFB9-51F293F2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595-50EB-468B-A818-1E6BA998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764-B1E5-4A67-B0FF-651EB7C1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41D-4E77-4571-9B34-9E942358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F1E-B1EC-426A-AC21-434AF829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337-1555-4903-AEF0-1F529341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FF1-F3C2-4BCD-A184-1109C9A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ADC-E9E1-4414-AA7E-FA84333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F93-48FB-4657-90F4-6301850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F87-66FD-4BDE-B19E-1D508246B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rai.net.ru/nano/" TargetMode="External"/><Relationship Id="rId3" Type="http://schemas.openxmlformats.org/officeDocument/2006/relationships/hyperlink" Target="http://urai.net.ru/crystal/p2aa1.html" TargetMode="External"/><Relationship Id="rId4" Type="http://schemas.openxmlformats.org/officeDocument/2006/relationships/hyperlink" Target="http://images.yandex.ru/yandsearch?rpt=simage&amp;ed=1&amp;text=&#1088;&#1072;&#1089;&#1090;&#1074;&#1086;&#1088;%20&#1084;&#1077;&#1076;&#1085;&#1086;&#1075;&#1086;%20&#1082;&#1091;&#1087;&#1086;&#1088;&#1086;&#1089;&#1072;&amp;p=6&amp;img_url=akak.ru%2Fsteps%2Fpictures%2F000%2F017%2F616_large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opper-sulfate"/>
          <p:cNvPicPr/>
          <p:nvPr/>
        </p:nvPicPr>
        <p:blipFill>
          <a:blip r:embed="rId2"/>
          <a:stretch/>
        </p:blipFill>
        <p:spPr>
          <a:xfrm>
            <a:off x="5424480" y="3571920"/>
            <a:ext cx="3384720" cy="2908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67658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ращивание кристаллов медного купороса                                  в домашни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55640" y="4076280"/>
            <a:ext cx="3887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у выполнил                                                        ученик  2 класса «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ибаев Асыл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                                                        Кокашвили  Е.С.                                                учитель начальных классов ОСШ № 11 г. Карага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593720" y="333360"/>
            <a:ext cx="7442280" cy="6524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8_b"/>
          <p:cNvPicPr/>
          <p:nvPr/>
        </p:nvPicPr>
        <p:blipFill>
          <a:blip r:embed="rId2"/>
          <a:stretch/>
        </p:blipFill>
        <p:spPr>
          <a:xfrm>
            <a:off x="6300720" y="4959360"/>
            <a:ext cx="2519280" cy="189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593720" y="189000"/>
            <a:ext cx="7226280" cy="55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8_b"/>
          <p:cNvPicPr/>
          <p:nvPr/>
        </p:nvPicPr>
        <p:blipFill>
          <a:blip r:embed="rId2"/>
          <a:stretch/>
        </p:blipFill>
        <p:spPr>
          <a:xfrm>
            <a:off x="7164360" y="5589720"/>
            <a:ext cx="1655640" cy="128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593720" y="189000"/>
            <a:ext cx="7226280" cy="5719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448000" y="2535120"/>
            <a:ext cx="66960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8_b"/>
          <p:cNvPicPr/>
          <p:nvPr/>
        </p:nvPicPr>
        <p:blipFill>
          <a:blip r:embed="rId2"/>
          <a:stretch/>
        </p:blipFill>
        <p:spPr>
          <a:xfrm>
            <a:off x="7164360" y="5589720"/>
            <a:ext cx="1655640" cy="128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1547640" y="404640"/>
            <a:ext cx="7272360" cy="518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-25236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4680" y="428760"/>
            <a:ext cx="67435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медного купо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42680" y="5357880"/>
            <a:ext cx="7286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F:\Асылжан\P70407-083848.jpg"/>
          <p:cNvPicPr/>
          <p:nvPr/>
        </p:nvPicPr>
        <p:blipFill>
          <a:blip r:embed="rId2"/>
          <a:srcRect l="0" t="0" r="0" b="23796"/>
          <a:stretch/>
        </p:blipFill>
        <p:spPr>
          <a:xfrm>
            <a:off x="3924360" y="1671480"/>
            <a:ext cx="2249280" cy="249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:\Асылжан\P70407-084153.jpg"/>
          <p:cNvPicPr/>
          <p:nvPr/>
        </p:nvPicPr>
        <p:blipFill>
          <a:blip r:embed="rId3"/>
          <a:srcRect l="0" t="0" r="0" b="27939"/>
          <a:stretch/>
        </p:blipFill>
        <p:spPr>
          <a:xfrm>
            <a:off x="6588000" y="1639800"/>
            <a:ext cx="1957680" cy="250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1593720" y="4148280"/>
            <a:ext cx="6507360" cy="28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rcRect l="24212" t="0" r="10230" b="21585"/>
          <a:stretch/>
        </p:blipFill>
        <p:spPr>
          <a:xfrm>
            <a:off x="1760400" y="1671480"/>
            <a:ext cx="1746360" cy="2476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-1764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5293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медного купо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1593720" y="4005360"/>
            <a:ext cx="69390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F:\Асылжан\P70407-084207.jpg"/>
          <p:cNvPicPr/>
          <p:nvPr/>
        </p:nvPicPr>
        <p:blipFill>
          <a:blip r:embed="rId3"/>
          <a:srcRect l="0" t="0" r="0" b="25862"/>
          <a:stretch/>
        </p:blipFill>
        <p:spPr>
          <a:xfrm>
            <a:off x="2484360" y="1844640"/>
            <a:ext cx="2210040" cy="216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4920" y="358920"/>
            <a:ext cx="6815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                медного купо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43040" y="4714560"/>
            <a:ext cx="71438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655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:\Асылжан\P70407-084334.jpg"/>
          <p:cNvPicPr/>
          <p:nvPr/>
        </p:nvPicPr>
        <p:blipFill>
          <a:blip r:embed="rId3"/>
          <a:srcRect l="0" t="0" r="0" b="18159"/>
          <a:stretch/>
        </p:blipFill>
        <p:spPr>
          <a:xfrm>
            <a:off x="4140360" y="1523880"/>
            <a:ext cx="2303280" cy="253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1593720" y="1233360"/>
            <a:ext cx="5954760" cy="439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User\Documents\SHablon-dlya-prezentatsii-po-him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14320" y="99972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се о минералах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rai.net.ru/nano/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ращивание минерал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rai.net.ru/crystal/p2aa1.html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еенсон И.А Занимательная химия для детей и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Твой первый АТЛАС определитель    МИНЕР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Энциклопедия драгоценных камней и кристалл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http://www.kristallikov.net/page6.html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yandsearch?rpt=simage&amp;ed=1&amp;text=%D1%80%D0%B0%D1%81%D1%82%D0%B2%D0%BE%D1%80%20%D0%BC%D0%B5%D0%B4%D0%BD%D0%BE%D0%B3%D0%BE%20%D0%BA%D1%83%D0%BF%D0%BE%D1%80%D0%BE%D1%81%D0%B0&amp;p=6&amp;img_url=akak.ru%2Fsteps%2Fpictures%2F000%2F017%2F616_large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file://localhost/E:/Data/Information/Kristalls/01.ht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file://localhost/E:/Data/Information/Kristalls/05.htm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Алексинский В.Н. Занимательные опыты по химии: Книга для учителя. - М.: Просвещение,1995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14400" y="5929200"/>
            <a:ext cx="50576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0" y="765000"/>
            <a:ext cx="6321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71400" y="1856880"/>
            <a:ext cx="342900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МА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инерал, самородный элемент, встречается в виде восьми- и двенадцатигранных кристаллов и и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:\Users\User\Pictures\Загрузи\x_6e01ae78.jpg"/>
          <p:cNvPicPr/>
          <p:nvPr/>
        </p:nvPicPr>
        <p:blipFill>
          <a:blip r:embed="rId2"/>
          <a:stretch/>
        </p:blipFill>
        <p:spPr>
          <a:xfrm>
            <a:off x="3203640" y="5637240"/>
            <a:ext cx="1512720" cy="1220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5572080" y="1785960"/>
            <a:ext cx="2720880" cy="2036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tretch/>
        </p:blipFill>
        <p:spPr>
          <a:xfrm>
            <a:off x="5500800" y="4286160"/>
            <a:ext cx="2928960" cy="1754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3080" y="499680"/>
            <a:ext cx="64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2680" y="1857240"/>
            <a:ext cx="3143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озрачный, ярко-красного, темно-красного или фиолетово-красного цвета. Окраска создается примесью хр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Users\User\Pictures\Загрузи\1266227834_glamour.tomsk.ru34.jpg"/>
          <p:cNvPicPr/>
          <p:nvPr/>
        </p:nvPicPr>
        <p:blipFill>
          <a:blip r:embed="rId2"/>
          <a:stretch/>
        </p:blipFill>
        <p:spPr>
          <a:xfrm>
            <a:off x="2484360" y="5429160"/>
            <a:ext cx="1871640" cy="1214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"/>
          <p:cNvPicPr/>
          <p:nvPr/>
        </p:nvPicPr>
        <p:blipFill>
          <a:blip r:embed="rId3"/>
          <a:stretch/>
        </p:blipFill>
        <p:spPr>
          <a:xfrm>
            <a:off x="5214960" y="1928880"/>
            <a:ext cx="2786040" cy="178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"/>
          <p:cNvPicPr/>
          <p:nvPr/>
        </p:nvPicPr>
        <p:blipFill>
          <a:blip r:embed="rId4"/>
          <a:stretch/>
        </p:blipFill>
        <p:spPr>
          <a:xfrm>
            <a:off x="5214960" y="4071960"/>
            <a:ext cx="2863800" cy="177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044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СТАЛЛЫ, ВСТРЕЧАЮЩИЕСЯ                                 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643040"/>
            <a:ext cx="350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ным материалом дл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ПФ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корунд - бесцветный оксид алюминия. При добавления 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итана и железа в период его формирования образуются кристаллы сапфира прекрасного сине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User\Pictures\Загрузи\i.jpeg"/>
          <p:cNvPicPr/>
          <p:nvPr/>
        </p:nvPicPr>
        <p:blipFill>
          <a:blip r:embed="rId2"/>
          <a:stretch/>
        </p:blipFill>
        <p:spPr>
          <a:xfrm>
            <a:off x="2700360" y="5445000"/>
            <a:ext cx="1727280" cy="1376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9" descr=""/>
          <p:cNvPicPr/>
          <p:nvPr/>
        </p:nvPicPr>
        <p:blipFill>
          <a:blip r:embed="rId3"/>
          <a:stretch/>
        </p:blipFill>
        <p:spPr>
          <a:xfrm>
            <a:off x="5643720" y="1714680"/>
            <a:ext cx="2571480" cy="2049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2" descr=""/>
          <p:cNvPicPr/>
          <p:nvPr/>
        </p:nvPicPr>
        <p:blipFill>
          <a:blip r:embed="rId4"/>
          <a:stretch/>
        </p:blipFill>
        <p:spPr>
          <a:xfrm>
            <a:off x="5643720" y="4071960"/>
            <a:ext cx="2714400" cy="18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4320" y="571320"/>
            <a:ext cx="6529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14320" y="1785600"/>
            <a:ext cx="3500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твердый и самый редкий из природных минералов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м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егодня алмаз в первую очередь камень-работник, а не камень-украшение. Алмазными пилами распиливают ка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User\Pictures\Загрузи\Makita_4101RH_1_1.jpg.1000x1000_q85.jpg"/>
          <p:cNvPicPr/>
          <p:nvPr/>
        </p:nvPicPr>
        <p:blipFill>
          <a:blip r:embed="rId2"/>
          <a:stretch/>
        </p:blipFill>
        <p:spPr>
          <a:xfrm>
            <a:off x="4929120" y="1714680"/>
            <a:ext cx="3738600" cy="3738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2680" y="571680"/>
            <a:ext cx="6815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3571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б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тся к самым красивым и самым дорогим из драгоценных камней. У   него есть и другие качества, более скромные, но полезные. Новая жизнь рубина - это лаз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User\Pictures\Загрузи\tattoo905.jpg"/>
          <p:cNvPicPr/>
          <p:nvPr/>
        </p:nvPicPr>
        <p:blipFill>
          <a:blip r:embed="rId2"/>
          <a:stretch/>
        </p:blipFill>
        <p:spPr>
          <a:xfrm>
            <a:off x="5072040" y="1857240"/>
            <a:ext cx="3643200" cy="3643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5960" y="571680"/>
            <a:ext cx="6672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РИСТАЛЛОВ                                       В НАУКЕ И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14320" y="2142720"/>
            <a:ext cx="2857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пф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зрачен, поэтому из него делают пластины для оптических приб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User\Pictures\Загрузи\sturman_F30070.jpg"/>
          <p:cNvPicPr/>
          <p:nvPr/>
        </p:nvPicPr>
        <p:blipFill>
          <a:blip r:embed="rId2"/>
          <a:stretch/>
        </p:blipFill>
        <p:spPr>
          <a:xfrm>
            <a:off x="6429240" y="2786040"/>
            <a:ext cx="20433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Pictures\Загрузи\thumbnail.jpeg"/>
          <p:cNvPicPr/>
          <p:nvPr/>
        </p:nvPicPr>
        <p:blipFill>
          <a:blip r:embed="rId3"/>
          <a:stretch/>
        </p:blipFill>
        <p:spPr>
          <a:xfrm>
            <a:off x="4643280" y="1785960"/>
            <a:ext cx="1872000" cy="130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Pictures\Загрузи\1004650031.jpg"/>
          <p:cNvPicPr/>
          <p:nvPr/>
        </p:nvPicPr>
        <p:blipFill>
          <a:blip r:embed="rId4"/>
          <a:stretch/>
        </p:blipFill>
        <p:spPr>
          <a:xfrm>
            <a:off x="4143240" y="40719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714680" y="857160"/>
            <a:ext cx="6929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42680" y="500040"/>
            <a:ext cx="6815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ГОВОРЯТ ЛЕГЕ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71760" y="1785960"/>
            <a:ext cx="35719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редставьте себе: чтобы ослепить ядовитую змею, достаточно показать ей ярко-зеленый камень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м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0" descr=""/>
          <p:cNvPicPr/>
          <p:nvPr/>
        </p:nvPicPr>
        <p:blipFill>
          <a:blip r:embed="rId2"/>
          <a:srcRect l="0" t="0" r="0" b="-29"/>
          <a:stretch/>
        </p:blipFill>
        <p:spPr>
          <a:xfrm>
            <a:off x="2143080" y="371484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143680" y="3714840"/>
            <a:ext cx="36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чтобы избавиться от дурных снов, надо носить на пальце кольцо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аш конь станет выносливым и послушным, если в его уздечку вплести синий камешек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рюз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5357880" y="1643040"/>
            <a:ext cx="3143160" cy="203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Hablon-dlya-prezentatsii-po-himii"/>
          <p:cNvPicPr/>
          <p:nvPr/>
        </p:nvPicPr>
        <p:blipFill>
          <a:blip r:embed="rId1"/>
          <a:stretch/>
        </p:blipFill>
        <p:spPr>
          <a:xfrm>
            <a:off x="14400" y="-244440"/>
            <a:ext cx="9144000" cy="712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55640" y="4076280"/>
            <a:ext cx="3887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44944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1692360" y="189000"/>
            <a:ext cx="7200720" cy="604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8:34:53Z</dcterms:created>
  <dc:creator>"Храмцова Елена" &lt;khramtzova.alena@mail.ru&gt;</dc:creator>
  <dc:description/>
  <dc:language>en-US</dc:language>
  <cp:lastModifiedBy>1</cp:lastModifiedBy>
  <dcterms:modified xsi:type="dcterms:W3CDTF">2017-05-31T08:31:58Z</dcterms:modified>
  <cp:revision>94</cp:revision>
  <dc:subject/>
  <dc:title>КРИСТАЛЛЫ</dc:title>
</cp:coreProperties>
</file>