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9.wmf" ContentType="image/x-wmf"/>
  <Override PartName="/ppt/media/image6.gif" ContentType="image/gif"/>
  <Override PartName="/ppt/media/image17.wmf" ContentType="image/x-wmf"/>
  <Override PartName="/ppt/media/drumroll.wav" ContentType="audio/x-wav"/>
  <Override PartName="/ppt/media/image5.png" ContentType="image/png"/>
  <Override PartName="/ppt/media/image25.gif" ContentType="image/gi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18.wmf" ContentType="image/x-wmf"/>
  <Override PartName="/ppt/media/image1.png" ContentType="image/png"/>
  <Override PartName="/ppt/media/image16.wmf" ContentType="image/x-wmf"/>
  <Override PartName="/ppt/media/image13.gif" ContentType="image/gif"/>
  <Override PartName="/ppt/media/image8.gif" ContentType="image/gif"/>
  <Override PartName="/ppt/media/image21.wmf" ContentType="image/x-wmf"/>
  <Override PartName="/ppt/media/image1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3FF9-08B6-49E9-A64E-83C966F9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12D3-7A34-4119-AB84-69E960A7B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C0B0-BC20-4856-822E-105083082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C3D8-61CB-41F1-AA6C-F0ED12B59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59859-4D2F-400B-89AF-9510E85C1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540F-1910-4F7D-BF6E-1195A740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9B67-0B0D-4AE7-9F80-3B1BE65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7249-0AE9-426E-8E53-00E0299B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99AD-C4C5-4A58-A504-1600D700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2709-B5BC-45BE-96C9-59AAFB80A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A7E1E-6671-41F0-AD57-8F963383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6A6-AC4A-4B1D-81DF-CA20EDBE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E44F-AEDC-439F-89D6-AA58607F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FC2D5-2322-4B1F-99AF-D4050448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7310A-A494-401C-88E9-FBB0D88B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BC9A-3803-478E-B1FF-62AB2F8D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996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627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371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996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627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C9F00-095D-4BC6-9A33-D4A099845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50F-163C-48C5-A36A-42DC5054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EDB9-A872-4B87-9A63-AE30A5FD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793-61F3-4116-B29A-47A178E1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574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06D-1D6A-4DC8-B0F6-0C33EBE6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E3EE-555C-4A3C-B085-56DC0B4D3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54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6B59-7417-47B0-91F4-F04FD0F98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54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5083-0958-43D2-92B4-CEE318EDD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69160"/>
            <a:chOff x="0" y="0"/>
            <a:chExt cx="9144000" cy="6869160"/>
          </a:xfrm>
        </p:grpSpPr>
        <p:sp>
          <p:nvSpPr>
            <p:cNvPr id="1" name="Rectangle 3"/>
            <p:cNvSpPr/>
            <p:nvPr/>
          </p:nvSpPr>
          <p:spPr>
            <a:xfrm>
              <a:off x="0" y="642960"/>
              <a:ext cx="1179360" cy="6226200"/>
            </a:xfrm>
            <a:prstGeom prst="rect">
              <a:avLst/>
            </a:prstGeom>
            <a:gradFill rotWithShape="0">
              <a:gsLst>
                <a:gs pos="0">
                  <a:srgbClr val="313127"/>
                </a:gs>
                <a:gs pos="50000">
                  <a:srgbClr val="6a6954"/>
                </a:gs>
                <a:gs pos="100000">
                  <a:srgbClr val="31312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2" name="Picture 4" descr="Astonbnr"/>
            <p:cNvPicPr/>
            <p:nvPr/>
          </p:nvPicPr>
          <p:blipFill>
            <a:blip r:embed="rId2"/>
            <a:srcRect l="0" t="15176" r="0" b="0"/>
            <a:stretch/>
          </p:blipFill>
          <p:spPr>
            <a:xfrm>
              <a:off x="0" y="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Rectangle 5"/>
            <p:cNvSpPr/>
            <p:nvPr/>
          </p:nvSpPr>
          <p:spPr>
            <a:xfrm>
              <a:off x="1117440" y="287280"/>
              <a:ext cx="8026560" cy="609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1185840" y="355680"/>
              <a:ext cx="7958160" cy="6495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1116000" y="295200"/>
              <a:ext cx="73080" cy="6562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" name="Line 8"/>
            <p:cNvSpPr/>
            <p:nvPr/>
          </p:nvSpPr>
          <p:spPr>
            <a:xfrm>
              <a:off x="0" y="658800"/>
              <a:ext cx="40788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668160" y="654120"/>
              <a:ext cx="447840" cy="0"/>
            </a:xfrm>
            <a:prstGeom prst="line">
              <a:avLst/>
            </a:prstGeom>
            <a:ln w="28440">
              <a:solidFill>
                <a:srgbClr val="3333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284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2571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6954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7124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CA1E1-4783-4B2F-A506-CA87B819078D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1117440" y="268200"/>
            <a:ext cx="8026560" cy="74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-31680" y="0"/>
            <a:ext cx="9178560" cy="6924600"/>
            <a:chOff x="-31680" y="0"/>
            <a:chExt cx="9178560" cy="6924600"/>
          </a:xfrm>
        </p:grpSpPr>
        <p:sp>
          <p:nvSpPr>
            <p:cNvPr id="52" name="Rectangle 3"/>
            <p:cNvSpPr/>
            <p:nvPr/>
          </p:nvSpPr>
          <p:spPr>
            <a:xfrm>
              <a:off x="-23760" y="7920"/>
              <a:ext cx="9167760" cy="68436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0"/>
              <a:ext cx="1179360" cy="6880320"/>
            </a:xfrm>
            <a:prstGeom prst="rect">
              <a:avLst/>
            </a:prstGeom>
            <a:gradFill rotWithShape="0">
              <a:gsLst>
                <a:gs pos="0">
                  <a:srgbClr val="6a6954"/>
                </a:gs>
                <a:gs pos="50000">
                  <a:srgbClr val="313127"/>
                </a:gs>
                <a:gs pos="100000">
                  <a:srgbClr val="6a695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Rectangle 5"/>
            <p:cNvSpPr/>
            <p:nvPr/>
          </p:nvSpPr>
          <p:spPr>
            <a:xfrm>
              <a:off x="1103400" y="0"/>
              <a:ext cx="79200" cy="692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55" name="Picture 6" descr="Astonbnr"/>
            <p:cNvPicPr/>
            <p:nvPr/>
          </p:nvPicPr>
          <p:blipFill>
            <a:blip r:embed="rId3"/>
            <a:srcRect l="0" t="15176" r="0" b="0"/>
            <a:stretch/>
          </p:blipFill>
          <p:spPr>
            <a:xfrm>
              <a:off x="0" y="2706840"/>
              <a:ext cx="9144000" cy="7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7"/>
            <p:cNvSpPr/>
            <p:nvPr/>
          </p:nvSpPr>
          <p:spPr>
            <a:xfrm rot="5400000">
              <a:off x="5086080" y="-628560"/>
              <a:ext cx="74520" cy="8040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7" name="Rectangle 8"/>
            <p:cNvSpPr/>
            <p:nvPr/>
          </p:nvSpPr>
          <p:spPr>
            <a:xfrm rot="5400000">
              <a:off x="5086440" y="-1353240"/>
              <a:ext cx="74880" cy="8045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8" name="Rectangle 9"/>
            <p:cNvSpPr/>
            <p:nvPr/>
          </p:nvSpPr>
          <p:spPr>
            <a:xfrm>
              <a:off x="-31680" y="0"/>
              <a:ext cx="74520" cy="6892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9" name="Line 10"/>
            <p:cNvSpPr/>
            <p:nvPr/>
          </p:nvSpPr>
          <p:spPr>
            <a:xfrm>
              <a:off x="657360" y="3362400"/>
              <a:ext cx="446040" cy="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0" name="Line 11"/>
            <p:cNvSpPr/>
            <p:nvPr/>
          </p:nvSpPr>
          <p:spPr>
            <a:xfrm flipV="1">
              <a:off x="42840" y="3359160"/>
              <a:ext cx="365040" cy="1440"/>
            </a:xfrm>
            <a:prstGeom prst="line">
              <a:avLst/>
            </a:prstGeom>
            <a:ln w="1584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404640" y="3357720"/>
              <a:ext cx="103320" cy="13644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546120" y="3362400"/>
              <a:ext cx="112680" cy="133200"/>
            </a:xfrm>
            <a:prstGeom prst="pie">
              <a:avLst/>
            </a:prstGeom>
            <a:noFill/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6954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ae4828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1261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700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129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2141-5AA1-4739-A3F0-AAEB7DC52655}" type="slidenum">
              <a:rPr b="0" lang="en-US" sz="1400" spc="-1" strike="noStrike">
                <a:solidFill>
                  <a:srgbClr val="3333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audio" Target="../media/drumroll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5.xml"/><Relationship Id="rId34" Type="http://schemas.openxmlformats.org/officeDocument/2006/relationships/slide" Target="slide36.xml"/><Relationship Id="rId35" Type="http://schemas.openxmlformats.org/officeDocument/2006/relationships/slide" Target="slide37.xml"/><Relationship Id="rId36" Type="http://schemas.openxmlformats.org/officeDocument/2006/relationships/slide" Target="slide38.xml"/><Relationship Id="rId37" Type="http://schemas.openxmlformats.org/officeDocument/2006/relationships/audio" Target="../media/drumroll.wav"/><Relationship Id="rId38" Type="http://schemas.openxmlformats.org/officeDocument/2006/relationships/audio" Target="../media/drumroll.wav"/><Relationship Id="rId3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1.xml"/><Relationship Id="rId2" Type="http://schemas.openxmlformats.org/officeDocument/2006/relationships/hyperlink" Target="file:///&#1048;&#1075;&#1088;&#1072;.ppt#5. &#1042;&#1086;&#1087;&#1088;&#1086;&#1089; 3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091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WordArt 3"/>
          <p:cNvSpPr txBox="1"/>
          <p:nvPr/>
        </p:nvSpPr>
        <p:spPr>
          <a:xfrm>
            <a:off x="2700360" y="836640"/>
            <a:ext cx="51814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Picture 9" descr=""/>
          <p:cNvPicPr/>
          <p:nvPr/>
        </p:nvPicPr>
        <p:blipFill>
          <a:blip r:embed="rId1"/>
          <a:stretch/>
        </p:blipFill>
        <p:spPr>
          <a:xfrm>
            <a:off x="8604360" y="6308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8"/>
          <p:cNvSpPr/>
          <p:nvPr/>
        </p:nvSpPr>
        <p:spPr>
          <a:xfrm>
            <a:off x="1143000" y="5934240"/>
            <a:ext cx="52862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003399"/>
                </a:solidFill>
                <a:latin typeface="Times New Roman"/>
              </a:rPr>
              <a:t>Құрастырған</a:t>
            </a:r>
            <a:r>
              <a:rPr b="1" i="1" lang="kk-KZ" sz="18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Нығмет Райгүл Сағидоллақызы,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“</a:t>
            </a:r>
            <a:r>
              <a:rPr b="1" i="1" lang="kk-KZ" sz="1800" spc="-1" strike="noStrike">
                <a:solidFill>
                  <a:srgbClr val="660066"/>
                </a:solidFill>
                <a:latin typeface="Times New Roman"/>
              </a:rPr>
              <a:t>Сымбат” ЖМ-нің қазақ тілі мен әдебиеті пәні мұғалімі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 rot="477600">
            <a:off x="1382760" y="3660480"/>
            <a:ext cx="4271760" cy="155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әдебие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 rot="21469800">
            <a:off x="4498920" y="3995280"/>
            <a:ext cx="395928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морфология</a:t>
            </a:r>
            <a:endParaRPr b="1" i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03280" y="1989000"/>
            <a:ext cx="7740720" cy="178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ІЛІМ  ШЫҢЫ</a:t>
            </a:r>
            <a:endParaRPr b="1" i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7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072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ртық сөзді табы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бала, қарақат, жемістер, ақшақар 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3564000" y="5715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4" name="Picture 6" descr="j0299125"/>
          <p:cNvPicPr/>
          <p:nvPr/>
        </p:nvPicPr>
        <p:blipFill>
          <a:blip r:embed="rId2"/>
          <a:stretch/>
        </p:blipFill>
        <p:spPr>
          <a:xfrm>
            <a:off x="684360" y="3933720"/>
            <a:ext cx="19666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ae4828"/>
                </a:solidFill>
                <a:latin typeface="Arial"/>
              </a:rPr>
              <a:t>-ов, -ова,-ев,-ева,-ин,-ина жұрнақтары  қандай жұрнақтар</a:t>
            </a: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3809880" y="5715000"/>
            <a:ext cx="13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AutoShape 4">
            <a:hlinkClick r:id="rId1" action="ppaction://hlinksldjump"/>
          </p:cNvPr>
          <p:cNvSpPr/>
          <p:nvPr/>
        </p:nvSpPr>
        <p:spPr>
          <a:xfrm>
            <a:off x="5292720" y="56610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5435640" y="5877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755640" y="1557360"/>
            <a:ext cx="7777080" cy="28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Өз құрамында үш буын, жеті әріп бар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Жалпы қарауындағы әріптері құрамындағыдан алты есе көп. Ол-не?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234936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Қазақ әліпбиі неше рет өзгер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AutoShape 4">
            <a:hlinkClick r:id="rId1" action="ppaction://hlinksldjump"/>
          </p:cNvPr>
          <p:cNvSpPr/>
          <p:nvPr/>
        </p:nvSpPr>
        <p:spPr>
          <a:xfrm>
            <a:off x="521964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292720" y="58053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611280" y="1989000"/>
            <a:ext cx="7416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Көмектес септігі неге буын үндестігіне бағынбайды?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6920" y="1981080"/>
            <a:ext cx="727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AutoShape 4">
            <a:hlinkClick r:id="rId1" action="ppaction://hlinksldjump"/>
          </p:cNvPr>
          <p:cNvSpPr/>
          <p:nvPr/>
        </p:nvSpPr>
        <p:spPr>
          <a:xfrm>
            <a:off x="507672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076720" y="580536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611280" y="1989000"/>
            <a:ext cx="756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Болымсыз есімдігі бір малдың тәуелденген түрімен аттас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AutoShape 4">
            <a:hlinkClick r:id="rId1" action="ppaction://hlinksldjump"/>
          </p:cNvPr>
          <p:cNvSpPr/>
          <p:nvPr/>
        </p:nvSpPr>
        <p:spPr>
          <a:xfrm>
            <a:off x="5867280" y="5516640"/>
            <a:ext cx="2713320" cy="914400"/>
          </a:xfrm>
          <a:custGeom>
            <a:avLst/>
            <a:gdLst>
              <a:gd name="textAreaLeft" fmla="*/ 59040 w 2713320"/>
              <a:gd name="textAreaRight" fmla="*/ 2654280 w 2713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4077" h="21600">
                <a:moveTo>
                  <a:pt x="0" y="0"/>
                </a:moveTo>
                <a:lnTo>
                  <a:pt x="64077" y="0"/>
                </a:lnTo>
                <a:lnTo>
                  <a:pt x="64077" y="21600"/>
                </a:lnTo>
                <a:lnTo>
                  <a:pt x="0" y="21600"/>
                </a:lnTo>
                <a:close/>
              </a:path>
              <a:path fill="lightenLess" w="64077" h="21600">
                <a:moveTo>
                  <a:pt x="0" y="0"/>
                </a:moveTo>
                <a:lnTo>
                  <a:pt x="64077" y="0"/>
                </a:lnTo>
                <a:lnTo>
                  <a:pt x="62677" y="1400"/>
                </a:lnTo>
                <a:lnTo>
                  <a:pt x="1400" y="1400"/>
                </a:lnTo>
                <a:close/>
              </a:path>
              <a:path fill="darken" w="64077" h="21600">
                <a:moveTo>
                  <a:pt x="64077" y="0"/>
                </a:moveTo>
                <a:lnTo>
                  <a:pt x="64077" y="21600"/>
                </a:lnTo>
                <a:lnTo>
                  <a:pt x="62677" y="20200"/>
                </a:lnTo>
                <a:lnTo>
                  <a:pt x="62677" y="1400"/>
                </a:lnTo>
                <a:close/>
              </a:path>
              <a:path fill="darkenLess" w="64077" h="21600">
                <a:moveTo>
                  <a:pt x="640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2677" y="20200"/>
                </a:lnTo>
                <a:close/>
              </a:path>
              <a:path fill="lighten" w="640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077" h="21600">
                <a:moveTo>
                  <a:pt x="25032" y="10800"/>
                </a:moveTo>
                <a:lnTo>
                  <a:pt x="39045" y="3794"/>
                </a:lnTo>
                <a:lnTo>
                  <a:pt x="3904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539640" y="1700280"/>
            <a:ext cx="734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Бұйрық райдағы «қайт»сөзінің синонимі  бір таумен аттас,ол -қандай тау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137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09480" y="1773360"/>
            <a:ext cx="74185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Оның әкесі жұмыстан келеді» мен  «Оның әкесі Алматыдан  келеді» деген сөйлемде қандай айырмашылық бар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AutoShape 4">
            <a:hlinkClick r:id="rId1" action="ppaction://hlinksldjump"/>
          </p:cNvPr>
          <p:cNvSpPr/>
          <p:nvPr/>
        </p:nvSpPr>
        <p:spPr>
          <a:xfrm>
            <a:off x="3492360" y="551664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1844640"/>
            <a:ext cx="756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4145d9"/>
                </a:solidFill>
                <a:latin typeface="Arial"/>
              </a:rPr>
              <a:t>Қазақ тілінде жұрнақ көп пе, жалғау көп пе?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34544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Туынды сын есімді көрсетіңіз: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А)домалақ, ақсақ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Ә)домалаған, ақсаған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3300"/>
                </a:solidFill>
                <a:latin typeface="Arial"/>
              </a:rPr>
              <a:t>Б)домалама,ақсама.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п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11280" y="1773360"/>
            <a:ext cx="5832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Picture 19" descr="j0301076"/>
          <p:cNvPicPr/>
          <p:nvPr/>
        </p:nvPicPr>
        <p:blipFill>
          <a:blip r:embed="rId2"/>
          <a:stretch/>
        </p:blipFill>
        <p:spPr>
          <a:xfrm>
            <a:off x="0" y="5029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52280" y="380880"/>
          <a:ext cx="8686800" cy="59961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447920"/>
                <a:gridCol w="1447920"/>
                <a:gridCol w="1447560"/>
              </a:tblGrid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4145d9"/>
                    </a:solidFill>
                  </a:tcPr>
                </a:tc>
              </a:tr>
              <a:tr h="97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 u="sng">
                          <a:solidFill>
                            <a:srgbClr val="ae4828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4000" spc="-1" strike="noStrike">
                        <a:solidFill>
                          <a:srgbClr val="33333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solidFill>
                      <a:srgbClr val="51e139"/>
                    </a:solidFill>
                  </a:tcPr>
                </a:tc>
              </a:tr>
            </a:tbl>
          </a:graphicData>
        </a:graphic>
      </p:graphicFrame>
      <p:sp>
        <p:nvSpPr>
          <p:cNvPr id="111" name="WordArt 77"/>
          <p:cNvSpPr txBox="1"/>
          <p:nvPr/>
        </p:nvSpPr>
        <p:spPr>
          <a:xfrm>
            <a:off x="1116000" y="4437000"/>
            <a:ext cx="66247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9966"/>
                  </a:solidFill>
                  <a:miter/>
                </a:ln>
                <a:gradFill rotWithShape="0">
                  <a:gsLst>
                    <a:gs pos="0">
                      <a:srgbClr val="003b00"/>
                    </a:gs>
                    <a:gs pos="100000">
                      <a:srgbClr val="008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Әдебиет</a:t>
            </a:r>
            <a:endParaRPr b="0" lang="en-US" sz="1800" spc="1" strike="noStrike">
              <a:ln w="9360">
                <a:solidFill>
                  <a:srgbClr val="339966"/>
                </a:solidFill>
                <a:miter/>
              </a:ln>
              <a:gradFill rotWithShape="0">
                <a:gsLst>
                  <a:gs pos="0">
                    <a:srgbClr val="003b00"/>
                  </a:gs>
                  <a:gs pos="100000">
                    <a:srgbClr val="008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WordArt 78"/>
          <p:cNvSpPr txBox="1"/>
          <p:nvPr/>
        </p:nvSpPr>
        <p:spPr>
          <a:xfrm>
            <a:off x="2124000" y="620640"/>
            <a:ext cx="51818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онети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124000" y="2852640"/>
            <a:ext cx="504036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325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Times New Roman"/>
              </a:rPr>
              <a:t>морфолог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Text Box 6"/>
          <p:cNvSpPr/>
          <p:nvPr/>
        </p:nvSpPr>
        <p:spPr>
          <a:xfrm>
            <a:off x="611280" y="1989000"/>
            <a:ext cx="7632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Морфологиялық талдау жаса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«Қынабынан қылышын суырды»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00" name="Picture 7" descr="j0235241"/>
          <p:cNvPicPr/>
          <p:nvPr/>
        </p:nvPicPr>
        <p:blipFill>
          <a:blip r:embed="rId2"/>
          <a:stretch/>
        </p:blipFill>
        <p:spPr>
          <a:xfrm>
            <a:off x="395280" y="4940280"/>
            <a:ext cx="2232000" cy="15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9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539640" y="2205000"/>
            <a:ext cx="792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Зат есімнен зат есім тудырады, ол зат есім заттық ұғымның атауы болады. Жұрнақты атаңыз.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826920" y="1989000"/>
            <a:ext cx="763272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Морфология нені қарастырады?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Етістікте де, зат есімде де бар қандай жұрнақ 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AutoShape 4">
            <a:hlinkClick r:id="rId1" action="ppaction://hlinksldjump"/>
          </p:cNvPr>
          <p:cNvSpPr/>
          <p:nvPr/>
        </p:nvSpPr>
        <p:spPr>
          <a:xfrm>
            <a:off x="4643280" y="551664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AutoShape 9"/>
          <p:cNvSpPr/>
          <p:nvPr/>
        </p:nvSpPr>
        <p:spPr>
          <a:xfrm>
            <a:off x="324000" y="5084640"/>
            <a:ext cx="1366560" cy="1440000"/>
          </a:xfrm>
          <a:custGeom>
            <a:avLst/>
            <a:gdLst>
              <a:gd name="textAreaLeft" fmla="*/ 88560 w 1366560"/>
              <a:gd name="textAreaRight" fmla="*/ 1278000 w 1366560"/>
              <a:gd name="textAreaTop" fmla="*/ 88560 h 1440000"/>
              <a:gd name="textAreaBottom" fmla="*/ 1351440 h 1440000"/>
            </a:gdLst>
            <a:ahLst/>
            <a:rect l="textAreaLeft" t="textAreaTop" r="textAreaRight" b="textAreaBottom"/>
            <a:pathLst>
              <a:path w="21600" h="22760">
                <a:moveTo>
                  <a:pt x="0" y="0"/>
                </a:moveTo>
                <a:lnTo>
                  <a:pt x="21600" y="0"/>
                </a:lnTo>
                <a:lnTo>
                  <a:pt x="21600" y="22760"/>
                </a:lnTo>
                <a:lnTo>
                  <a:pt x="0" y="22760"/>
                </a:lnTo>
                <a:close/>
              </a:path>
              <a:path fill="lightenLess" w="21600" h="227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60">
                <a:moveTo>
                  <a:pt x="21600" y="0"/>
                </a:moveTo>
                <a:lnTo>
                  <a:pt x="21600" y="22760"/>
                </a:lnTo>
                <a:lnTo>
                  <a:pt x="20200" y="21360"/>
                </a:lnTo>
                <a:lnTo>
                  <a:pt x="20200" y="1400"/>
                </a:lnTo>
                <a:close/>
              </a:path>
              <a:path fill="darkenLess" w="21600" h="22760">
                <a:moveTo>
                  <a:pt x="21600" y="22760"/>
                </a:moveTo>
                <a:lnTo>
                  <a:pt x="0" y="22760"/>
                </a:lnTo>
                <a:lnTo>
                  <a:pt x="1400" y="21360"/>
                </a:lnTo>
                <a:lnTo>
                  <a:pt x="20200" y="21360"/>
                </a:lnTo>
                <a:close/>
              </a:path>
              <a:path fill="lighten" w="21600" h="22760">
                <a:moveTo>
                  <a:pt x="0" y="2276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60"/>
                </a:lnTo>
                <a:close/>
              </a:path>
              <a:path fill="darken" w="21600" h="22760">
                <a:moveTo>
                  <a:pt x="10800" y="1538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2760">
                <a:moveTo>
                  <a:pt x="11905" y="14862"/>
                </a:moveTo>
                <a:lnTo>
                  <a:pt x="11905" y="12903"/>
                </a:lnTo>
                <a:cubicBezTo>
                  <a:pt x="11905" y="12077"/>
                  <a:pt x="12236" y="11380"/>
                  <a:pt x="12837" y="11380"/>
                </a:cubicBezTo>
                <a:cubicBezTo>
                  <a:pt x="13968" y="11380"/>
                  <a:pt x="14865" y="10014"/>
                  <a:pt x="14865" y="8430"/>
                </a:cubicBezTo>
                <a:cubicBezTo>
                  <a:pt x="14865" y="6115"/>
                  <a:pt x="13011" y="4374"/>
                  <a:pt x="10800" y="4374"/>
                </a:cubicBezTo>
                <a:cubicBezTo>
                  <a:pt x="8589" y="4374"/>
                  <a:pt x="6918" y="6115"/>
                  <a:pt x="6918" y="8430"/>
                </a:cubicBezTo>
                <a:lnTo>
                  <a:pt x="8772" y="8430"/>
                </a:lnTo>
                <a:cubicBezTo>
                  <a:pt x="8772" y="7290"/>
                  <a:pt x="9695" y="6402"/>
                  <a:pt x="10800" y="6402"/>
                </a:cubicBezTo>
                <a:cubicBezTo>
                  <a:pt x="11905" y="6402"/>
                  <a:pt x="12837" y="7290"/>
                  <a:pt x="12837" y="8430"/>
                </a:cubicBezTo>
                <a:cubicBezTo>
                  <a:pt x="12837" y="9170"/>
                  <a:pt x="12367" y="9901"/>
                  <a:pt x="11905" y="9901"/>
                </a:cubicBezTo>
                <a:cubicBezTo>
                  <a:pt x="10800" y="9901"/>
                  <a:pt x="9695" y="11380"/>
                  <a:pt x="9695" y="12903"/>
                </a:cubicBezTo>
                <a:lnTo>
                  <a:pt x="9695" y="14862"/>
                </a:lnTo>
                <a:close/>
              </a:path>
            </a:pathLst>
          </a:custGeom>
          <a:solidFill>
            <a:srgbClr val="51e1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611280" y="1628640"/>
            <a:ext cx="7770600" cy="38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Arial"/>
                <a:ea typeface="Arial"/>
              </a:rPr>
              <a:t>“∩</a:t>
            </a:r>
            <a:r>
              <a:rPr b="1" lang="el-GR" sz="4000" spc="-1" strike="noStrike">
                <a:solidFill>
                  <a:srgbClr val="333333"/>
                </a:solidFill>
                <a:latin typeface="Times New Roman"/>
              </a:rPr>
              <a:t>ΠΠΛ</a:t>
            </a:r>
            <a:r>
              <a:rPr b="1" lang="kk-KZ" sz="4000" spc="-1" strike="noStrike">
                <a:solidFill>
                  <a:srgbClr val="333333"/>
                </a:solidFill>
                <a:latin typeface="Times New Roman"/>
              </a:rPr>
              <a:t>” мына белгіге сай келетін сөзді көрсетіңіз: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А) балалардың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Ә)аулымыздағы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Б) ауылдық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80720"/>
            <a:ext cx="8424720" cy="33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Көсемшенің жіктелмейтін түр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250920" y="220500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2" name="Picture 7" descr="j0295241"/>
          <p:cNvPicPr/>
          <p:nvPr/>
        </p:nvPicPr>
        <p:blipFill>
          <a:blip r:embed="rId2"/>
          <a:stretch/>
        </p:blipFill>
        <p:spPr>
          <a:xfrm>
            <a:off x="361800" y="4149720"/>
            <a:ext cx="1656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AutoShape 4">
            <a:hlinkClick r:id="rId1" action="ppaction://hlinksldjump"/>
          </p:cNvPr>
          <p:cNvSpPr/>
          <p:nvPr/>
        </p:nvSpPr>
        <p:spPr>
          <a:xfrm>
            <a:off x="6588000" y="5562720"/>
            <a:ext cx="2232000" cy="914400"/>
          </a:xfrm>
          <a:custGeom>
            <a:avLst/>
            <a:gdLst>
              <a:gd name="textAreaLeft" fmla="*/ 59040 w 2232000"/>
              <a:gd name="textAreaRight" fmla="*/ 2172960 w 22320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52712" h="21600">
                <a:moveTo>
                  <a:pt x="0" y="0"/>
                </a:moveTo>
                <a:lnTo>
                  <a:pt x="52712" y="0"/>
                </a:lnTo>
                <a:lnTo>
                  <a:pt x="52712" y="21600"/>
                </a:lnTo>
                <a:lnTo>
                  <a:pt x="0" y="21600"/>
                </a:lnTo>
                <a:close/>
              </a:path>
              <a:path fill="lightenLess" w="52712" h="21600">
                <a:moveTo>
                  <a:pt x="0" y="0"/>
                </a:moveTo>
                <a:lnTo>
                  <a:pt x="52712" y="0"/>
                </a:lnTo>
                <a:lnTo>
                  <a:pt x="51312" y="1400"/>
                </a:lnTo>
                <a:lnTo>
                  <a:pt x="1400" y="1400"/>
                </a:lnTo>
                <a:close/>
              </a:path>
              <a:path fill="darken" w="52712" h="21600">
                <a:moveTo>
                  <a:pt x="52712" y="0"/>
                </a:moveTo>
                <a:lnTo>
                  <a:pt x="52712" y="21600"/>
                </a:lnTo>
                <a:lnTo>
                  <a:pt x="51312" y="20200"/>
                </a:lnTo>
                <a:lnTo>
                  <a:pt x="51312" y="1400"/>
                </a:lnTo>
                <a:close/>
              </a:path>
              <a:path fill="darkenLess" w="52712" h="21600">
                <a:moveTo>
                  <a:pt x="52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312" y="20200"/>
                </a:lnTo>
                <a:close/>
              </a:path>
              <a:path fill="lighten" w="52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2712" h="21600">
                <a:moveTo>
                  <a:pt x="19350" y="10800"/>
                </a:moveTo>
                <a:lnTo>
                  <a:pt x="33363" y="3794"/>
                </a:lnTo>
                <a:lnTo>
                  <a:pt x="33363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84360" y="1844640"/>
            <a:ext cx="7920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Екі етістің жұрнағы бірдей, айырмашылығы неде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Олар  қандай  етістер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7" name="Picture 7" descr="j0233312"/>
          <p:cNvPicPr/>
          <p:nvPr/>
        </p:nvPicPr>
        <p:blipFill>
          <a:blip r:embed="rId2"/>
          <a:stretch/>
        </p:blipFill>
        <p:spPr>
          <a:xfrm>
            <a:off x="0" y="4554360"/>
            <a:ext cx="22622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772400" cy="71928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5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19810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4360" y="1052640"/>
            <a:ext cx="7559640" cy="39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333333"/>
                </a:solidFill>
                <a:latin typeface="Times New Roman"/>
              </a:rPr>
              <a:t>-Бұл не деген үлкен мысық,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Салқындады-ау суға түсіп,-деді бала күлімдеді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Әкесі де езу тартты,“Мысық”жүзіп бара жатты..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     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Қандай шығармадан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Picture 7" descr="j0332364"/>
          <p:cNvPicPr/>
          <p:nvPr/>
        </p:nvPicPr>
        <p:blipFill>
          <a:blip r:embed="rId2"/>
          <a:stretch/>
        </p:blipFill>
        <p:spPr>
          <a:xfrm>
            <a:off x="250920" y="4869000"/>
            <a:ext cx="237636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7772400" cy="93672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AutoShape 4">
            <a:hlinkClick r:id="rId1" action="ppaction://hlinksldjump"/>
          </p:cNvPr>
          <p:cNvSpPr/>
          <p:nvPr/>
        </p:nvSpPr>
        <p:spPr>
          <a:xfrm>
            <a:off x="5796000" y="5661000"/>
            <a:ext cx="2928960" cy="914400"/>
          </a:xfrm>
          <a:custGeom>
            <a:avLst/>
            <a:gdLst>
              <a:gd name="textAreaLeft" fmla="*/ 59040 w 2928960"/>
              <a:gd name="textAreaRight" fmla="*/ 2869920 w 2928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9169" h="21600">
                <a:moveTo>
                  <a:pt x="0" y="0"/>
                </a:moveTo>
                <a:lnTo>
                  <a:pt x="69169" y="0"/>
                </a:lnTo>
                <a:lnTo>
                  <a:pt x="69169" y="21600"/>
                </a:lnTo>
                <a:lnTo>
                  <a:pt x="0" y="21600"/>
                </a:lnTo>
                <a:close/>
              </a:path>
              <a:path fill="lightenLess" w="69169" h="21600">
                <a:moveTo>
                  <a:pt x="0" y="0"/>
                </a:moveTo>
                <a:lnTo>
                  <a:pt x="69169" y="0"/>
                </a:lnTo>
                <a:lnTo>
                  <a:pt x="67769" y="1400"/>
                </a:lnTo>
                <a:lnTo>
                  <a:pt x="1400" y="1400"/>
                </a:lnTo>
                <a:close/>
              </a:path>
              <a:path fill="darken" w="69169" h="21600">
                <a:moveTo>
                  <a:pt x="69169" y="0"/>
                </a:moveTo>
                <a:lnTo>
                  <a:pt x="69169" y="21600"/>
                </a:lnTo>
                <a:lnTo>
                  <a:pt x="67769" y="20200"/>
                </a:lnTo>
                <a:lnTo>
                  <a:pt x="67769" y="1400"/>
                </a:lnTo>
                <a:close/>
              </a:path>
              <a:path fill="darkenLess" w="69169" h="21600">
                <a:moveTo>
                  <a:pt x="691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769" y="20200"/>
                </a:lnTo>
                <a:close/>
              </a:path>
              <a:path fill="lighten" w="691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9169" h="21600">
                <a:moveTo>
                  <a:pt x="27578" y="10800"/>
                </a:moveTo>
                <a:lnTo>
                  <a:pt x="41591" y="3794"/>
                </a:lnTo>
                <a:lnTo>
                  <a:pt x="415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250920" y="1773360"/>
            <a:ext cx="7273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«Кебенек киген келеді,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333333"/>
                </a:solidFill>
                <a:latin typeface="Arial"/>
              </a:rPr>
              <a:t>            </a:t>
            </a:r>
            <a:r>
              <a:rPr b="1" lang="kk-KZ" sz="2800" spc="-1" strike="noStrike">
                <a:solidFill>
                  <a:srgbClr val="333333"/>
                </a:solidFill>
                <a:latin typeface="Arial"/>
              </a:rPr>
              <a:t>Кебін киген келмейді” деген мақалдағы “кебін, кебенек”сөздеріне түсінік бер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7" name="Picture 10" descr="j0300840"/>
          <p:cNvPicPr/>
          <p:nvPr/>
        </p:nvPicPr>
        <p:blipFill>
          <a:blip r:embed="rId2"/>
          <a:stretch/>
        </p:blipFill>
        <p:spPr>
          <a:xfrm>
            <a:off x="2916360" y="5084640"/>
            <a:ext cx="237636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924360" y="5733720"/>
            <a:ext cx="1008000" cy="36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95280" y="2276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4123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f74123"/>
                </a:solidFill>
                <a:latin typeface="Arial"/>
              </a:rPr>
              <a:t>Элегиялық өлең деген не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2" name="Picture 7" descr="j0301252"/>
          <p:cNvPicPr/>
          <p:nvPr/>
        </p:nvPicPr>
        <p:blipFill>
          <a:blip r:embed="rId2"/>
          <a:stretch/>
        </p:blipFill>
        <p:spPr>
          <a:xfrm>
            <a:off x="324000" y="5013360"/>
            <a:ext cx="2406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644040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Фонетика нені зерттей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6588000" y="5734080"/>
            <a:ext cx="1752840" cy="685800"/>
          </a:xfrm>
          <a:custGeom>
            <a:avLst/>
            <a:gdLst>
              <a:gd name="textAreaLeft" fmla="*/ 44280 w 1752840"/>
              <a:gd name="textAreaRight" fmla="*/ 1708560 w 17528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55190" h="21600">
                <a:moveTo>
                  <a:pt x="0" y="0"/>
                </a:moveTo>
                <a:lnTo>
                  <a:pt x="55190" y="0"/>
                </a:lnTo>
                <a:lnTo>
                  <a:pt x="55190" y="21600"/>
                </a:lnTo>
                <a:lnTo>
                  <a:pt x="0" y="21600"/>
                </a:lnTo>
                <a:close/>
              </a:path>
              <a:path fill="lightenLess" w="55190" h="21600">
                <a:moveTo>
                  <a:pt x="0" y="0"/>
                </a:moveTo>
                <a:lnTo>
                  <a:pt x="55190" y="0"/>
                </a:lnTo>
                <a:lnTo>
                  <a:pt x="53790" y="1400"/>
                </a:lnTo>
                <a:lnTo>
                  <a:pt x="1400" y="1400"/>
                </a:lnTo>
                <a:close/>
              </a:path>
              <a:path fill="darken" w="55190" h="21600">
                <a:moveTo>
                  <a:pt x="55190" y="0"/>
                </a:moveTo>
                <a:lnTo>
                  <a:pt x="55190" y="21600"/>
                </a:lnTo>
                <a:lnTo>
                  <a:pt x="53790" y="20200"/>
                </a:lnTo>
                <a:lnTo>
                  <a:pt x="53790" y="1400"/>
                </a:lnTo>
                <a:close/>
              </a:path>
              <a:path fill="darkenLess" w="55190" h="21600">
                <a:moveTo>
                  <a:pt x="551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790" y="20200"/>
                </a:lnTo>
                <a:close/>
              </a:path>
              <a:path fill="lighten" w="551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190" h="21600">
                <a:moveTo>
                  <a:pt x="20588" y="10800"/>
                </a:moveTo>
                <a:lnTo>
                  <a:pt x="34601" y="3794"/>
                </a:lnTo>
                <a:lnTo>
                  <a:pt x="3460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7" name="Picture 6" descr="37"/>
          <p:cNvPicPr/>
          <p:nvPr/>
        </p:nvPicPr>
        <p:blipFill>
          <a:blip r:embed="rId2"/>
          <a:stretch/>
        </p:blipFill>
        <p:spPr>
          <a:xfrm flipH="1">
            <a:off x="1066320" y="4464000"/>
            <a:ext cx="3124440" cy="16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8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468360" y="2133720"/>
            <a:ext cx="820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«Аяз би»ертегісіндегі Жаманның шөп жаманы деп қарақоғаны, құс жаманы деп сауысқанды атау себебі?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7772400" cy="71928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9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AutoShape 4">
            <a:hlinkClick r:id="rId1" action="ppaction://hlinksldjump"/>
          </p:cNvPr>
          <p:cNvSpPr/>
          <p:nvPr/>
        </p:nvSpPr>
        <p:spPr>
          <a:xfrm>
            <a:off x="6012000" y="5661000"/>
            <a:ext cx="2786040" cy="914400"/>
          </a:xfrm>
          <a:custGeom>
            <a:avLst/>
            <a:gdLst>
              <a:gd name="textAreaLeft" fmla="*/ 59040 w 2786040"/>
              <a:gd name="textAreaRight" fmla="*/ 2727000 w 278604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65795" h="21600">
                <a:moveTo>
                  <a:pt x="0" y="0"/>
                </a:moveTo>
                <a:lnTo>
                  <a:pt x="65795" y="0"/>
                </a:lnTo>
                <a:lnTo>
                  <a:pt x="65795" y="21600"/>
                </a:lnTo>
                <a:lnTo>
                  <a:pt x="0" y="21600"/>
                </a:lnTo>
                <a:close/>
              </a:path>
              <a:path fill="lightenLess" w="65795" h="21600">
                <a:moveTo>
                  <a:pt x="0" y="0"/>
                </a:moveTo>
                <a:lnTo>
                  <a:pt x="65795" y="0"/>
                </a:lnTo>
                <a:lnTo>
                  <a:pt x="64395" y="1400"/>
                </a:lnTo>
                <a:lnTo>
                  <a:pt x="1400" y="1400"/>
                </a:lnTo>
                <a:close/>
              </a:path>
              <a:path fill="darken" w="65795" h="21600">
                <a:moveTo>
                  <a:pt x="65795" y="0"/>
                </a:moveTo>
                <a:lnTo>
                  <a:pt x="65795" y="21600"/>
                </a:lnTo>
                <a:lnTo>
                  <a:pt x="64395" y="20200"/>
                </a:lnTo>
                <a:lnTo>
                  <a:pt x="64395" y="1400"/>
                </a:lnTo>
                <a:close/>
              </a:path>
              <a:path fill="darkenLess" w="65795" h="21600">
                <a:moveTo>
                  <a:pt x="65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395" y="20200"/>
                </a:lnTo>
                <a:close/>
              </a:path>
              <a:path fill="lighten" w="65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5795" h="21600">
                <a:moveTo>
                  <a:pt x="25891" y="10800"/>
                </a:moveTo>
                <a:lnTo>
                  <a:pt x="39904" y="3794"/>
                </a:lnTo>
                <a:lnTo>
                  <a:pt x="3990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Text Box 6"/>
          <p:cNvSpPr/>
          <p:nvPr/>
        </p:nvSpPr>
        <p:spPr>
          <a:xfrm>
            <a:off x="250920" y="1052640"/>
            <a:ext cx="835344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4145d9"/>
                </a:solidFill>
                <a:latin typeface="Times New Roman"/>
              </a:rPr>
              <a:t>…</a:t>
            </a:r>
            <a:r>
              <a:rPr b="1" lang="ru-RU" sz="3600" spc="-1" strike="noStrike">
                <a:solidFill>
                  <a:srgbClr val="4145d9"/>
                </a:solidFill>
                <a:latin typeface="Times New Roman"/>
              </a:rPr>
              <a:t>Әр тарапқа шығард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Қатынға  ақыл салған соң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Қатынның тілін алған соң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Неше батыр болса да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4145d9"/>
                </a:solidFill>
                <a:latin typeface="Times New Roman"/>
              </a:rPr>
              <a:t>Басында билік жоқ адам...,-</a:t>
            </a:r>
            <a:r>
              <a:rPr b="1" lang="kk-KZ" sz="3200" spc="-1" strike="noStrike">
                <a:solidFill>
                  <a:srgbClr val="4145d9"/>
                </a:solidFill>
                <a:latin typeface="Times New Roman"/>
              </a:rPr>
              <a:t> деп, кім кімнің намысына тиді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1" name="Picture 7" descr="j0216516"/>
          <p:cNvPicPr/>
          <p:nvPr/>
        </p:nvPicPr>
        <p:blipFill>
          <a:blip r:embed="rId2"/>
          <a:stretch/>
        </p:blipFill>
        <p:spPr>
          <a:xfrm rot="21229800">
            <a:off x="1476000" y="5589720"/>
            <a:ext cx="180036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7772400" cy="792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0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250920" y="981000"/>
            <a:ext cx="8785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тіген сөзді ұмытпастыққа төрт түрлі себеп бар:әуелі –көкірегі байлаулы болмақ;екінші-ғибратлану керек;үшінші-іштей бірнеше қайталап,бекіту керек;төртінші-ой кеселдіден қашық болу керек…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Абайдың қай қарасөзінен?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772400" cy="93636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1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64216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Даудың басы кімнің сиыры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Автор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50920" y="1773360"/>
            <a:ext cx="864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145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3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250920" y="1844640"/>
            <a:ext cx="8066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Абайдың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Құлақтан кіріп бойды алар,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Әсем ән  мен тәтті күй...-</a:t>
            </a:r>
            <a:r>
              <a:rPr b="1" lang="kk-KZ" sz="4000" spc="-1" strike="noStrike">
                <a:solidFill>
                  <a:srgbClr val="4145d9"/>
                </a:solidFill>
                <a:latin typeface="Arial"/>
              </a:rPr>
              <a:t>деп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4145d9"/>
                </a:solidFill>
                <a:latin typeface="Arial"/>
              </a:rPr>
              <a:t>басталатын өлеңі қалай туып еді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3-сұра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4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Text Box 6"/>
          <p:cNvSpPr/>
          <p:nvPr/>
        </p:nvSpPr>
        <p:spPr>
          <a:xfrm>
            <a:off x="0" y="177336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4145d9"/>
                </a:solidFill>
                <a:latin typeface="Arial"/>
              </a:rPr>
              <a:t>Хиросима,Нагасаки трагедиясына арналған шығарманы атап, авторын айтыңыз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7772400" cy="72072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4-сұра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395280" y="198900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kk-KZ" sz="5400" spc="-1" strike="noStrike">
                <a:solidFill>
                  <a:srgbClr val="ff3300"/>
                </a:solidFill>
                <a:latin typeface="Arial"/>
              </a:rPr>
              <a:t>Мен өзге ұлтты құрметтеуші, өз ұлтын сүюші адаммын.”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00"/>
                </a:solidFill>
                <a:latin typeface="Arial"/>
              </a:rPr>
              <a:t>Кімнің сөзі?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Text Box 6"/>
          <p:cNvSpPr/>
          <p:nvPr/>
        </p:nvSpPr>
        <p:spPr>
          <a:xfrm>
            <a:off x="0" y="263700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4145d9"/>
                </a:solidFill>
                <a:latin typeface="Arial"/>
              </a:rPr>
              <a:t>Атын айта бастаса-ақ тілі таңдайына жабысып қалатын бала кім еді?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77706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4">
            <a:hlinkClick r:id="rId1" action="ppaction://hlinksldjump"/>
          </p:cNvPr>
          <p:cNvSpPr/>
          <p:nvPr/>
        </p:nvSpPr>
        <p:spPr>
          <a:xfrm>
            <a:off x="3492360" y="573408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324000" y="1773360"/>
            <a:ext cx="8964360" cy="38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Алты ай бойы алапатта жеңілмеген,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алты ай бойы ерлік салтқа төрін берген Отырар қалай жермен жексен болды?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4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4145d9"/>
                </a:solidFill>
                <a:latin typeface="Times New Roman"/>
              </a:rPr>
              <a:t>(себебін айтыңыз)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29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1349"/>
              </a:spcBef>
              <a:buClr>
                <a:srgbClr val="e09142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Фонетика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(тіл  </a:t>
            </a:r>
            <a:r>
              <a:rPr b="1" lang="kk-KZ" sz="5400" spc="-1" strike="noStrike">
                <a:solidFill>
                  <a:srgbClr val="333333"/>
                </a:solidFill>
                <a:latin typeface="Arial"/>
              </a:rPr>
              <a:t>дыбыстары)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AutoShape 4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2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AutoShape 4">
            <a:hlinkClick r:id="rId1" action="ppaction://hlinksldjump"/>
          </p:cNvPr>
          <p:cNvSpPr/>
          <p:nvPr/>
        </p:nvSpPr>
        <p:spPr>
          <a:xfrm>
            <a:off x="3995640" y="558972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п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523880" y="205740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Сингармонизм деген не?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2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321280" y="2001960"/>
            <a:ext cx="384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4145d9"/>
                </a:solidFill>
                <a:latin typeface="Times New Roman"/>
              </a:rPr>
              <a:t>Буын үндесуі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5">
            <a:hlinkClick r:id="rId1" action="ppaction://hlinksldjump"/>
          </p:cNvPr>
          <p:cNvSpPr/>
          <p:nvPr/>
        </p:nvSpPr>
        <p:spPr>
          <a:xfrm>
            <a:off x="5562720" y="5334120"/>
            <a:ext cx="2209680" cy="838080"/>
          </a:xfrm>
          <a:custGeom>
            <a:avLst/>
            <a:gdLst>
              <a:gd name="textAreaLeft" fmla="*/ 54000 w 2209680"/>
              <a:gd name="textAreaRight" fmla="*/ 2155680 w 22096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6935" h="21600">
                <a:moveTo>
                  <a:pt x="0" y="0"/>
                </a:moveTo>
                <a:lnTo>
                  <a:pt x="56935" y="0"/>
                </a:lnTo>
                <a:lnTo>
                  <a:pt x="56935" y="21600"/>
                </a:lnTo>
                <a:lnTo>
                  <a:pt x="0" y="21600"/>
                </a:lnTo>
                <a:close/>
              </a:path>
              <a:path fill="lightenLess" w="56935" h="21600">
                <a:moveTo>
                  <a:pt x="0" y="0"/>
                </a:moveTo>
                <a:lnTo>
                  <a:pt x="56935" y="0"/>
                </a:lnTo>
                <a:lnTo>
                  <a:pt x="55535" y="1400"/>
                </a:lnTo>
                <a:lnTo>
                  <a:pt x="1400" y="1400"/>
                </a:lnTo>
                <a:close/>
              </a:path>
              <a:path fill="darken" w="56935" h="21600">
                <a:moveTo>
                  <a:pt x="56935" y="0"/>
                </a:moveTo>
                <a:lnTo>
                  <a:pt x="56935" y="21600"/>
                </a:lnTo>
                <a:lnTo>
                  <a:pt x="55535" y="20200"/>
                </a:lnTo>
                <a:lnTo>
                  <a:pt x="55535" y="1400"/>
                </a:lnTo>
                <a:close/>
              </a:path>
              <a:path fill="darkenLess" w="56935" h="21600">
                <a:moveTo>
                  <a:pt x="569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35" y="20200"/>
                </a:lnTo>
                <a:close/>
              </a:path>
              <a:path fill="lighten" w="569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35" h="21600">
                <a:moveTo>
                  <a:pt x="21461" y="10800"/>
                </a:moveTo>
                <a:lnTo>
                  <a:pt x="35474" y="3794"/>
                </a:lnTo>
                <a:lnTo>
                  <a:pt x="3547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Text Box 6"/>
          <p:cNvSpPr/>
          <p:nvPr/>
        </p:nvSpPr>
        <p:spPr>
          <a:xfrm>
            <a:off x="179280" y="1844640"/>
            <a:ext cx="85694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Б  В  Г  Ғ  Д  Ж  З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П  Ф  К  Қ  Т  Ш С   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 flipV="1">
            <a:off x="4284720" y="2638080"/>
            <a:ext cx="892656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rId1" action="ppaction://hlinksldjump"/>
          </p:cNvPr>
          <p:cNvSpPr/>
          <p:nvPr/>
        </p:nvSpPr>
        <p:spPr>
          <a:xfrm>
            <a:off x="6095880" y="5410080"/>
            <a:ext cx="2210040" cy="838440"/>
          </a:xfrm>
          <a:custGeom>
            <a:avLst/>
            <a:gdLst>
              <a:gd name="textAreaLeft" fmla="*/ 54360 w 2210040"/>
              <a:gd name="textAreaRight" fmla="*/ 2155680 w 221004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20" h="21600">
                <a:moveTo>
                  <a:pt x="0" y="0"/>
                </a:moveTo>
                <a:lnTo>
                  <a:pt x="56920" y="0"/>
                </a:lnTo>
                <a:lnTo>
                  <a:pt x="56920" y="21600"/>
                </a:lnTo>
                <a:lnTo>
                  <a:pt x="0" y="21600"/>
                </a:lnTo>
                <a:close/>
              </a:path>
              <a:path fill="lightenLess" w="56920" h="21600">
                <a:moveTo>
                  <a:pt x="0" y="0"/>
                </a:moveTo>
                <a:lnTo>
                  <a:pt x="56920" y="0"/>
                </a:lnTo>
                <a:lnTo>
                  <a:pt x="55520" y="1400"/>
                </a:lnTo>
                <a:lnTo>
                  <a:pt x="1400" y="1400"/>
                </a:lnTo>
                <a:close/>
              </a:path>
              <a:path fill="darken" w="56920" h="21600">
                <a:moveTo>
                  <a:pt x="56920" y="0"/>
                </a:moveTo>
                <a:lnTo>
                  <a:pt x="56920" y="21600"/>
                </a:lnTo>
                <a:lnTo>
                  <a:pt x="55520" y="20200"/>
                </a:lnTo>
                <a:lnTo>
                  <a:pt x="55520" y="1400"/>
                </a:lnTo>
                <a:close/>
              </a:path>
              <a:path fill="darkenLess" w="56920" h="21600">
                <a:moveTo>
                  <a:pt x="56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20" y="20200"/>
                </a:lnTo>
                <a:close/>
              </a:path>
              <a:path fill="lighten" w="56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20" h="21600">
                <a:moveTo>
                  <a:pt x="21454" y="10800"/>
                </a:moveTo>
                <a:lnTo>
                  <a:pt x="35467" y="3794"/>
                </a:lnTo>
                <a:lnTo>
                  <a:pt x="35467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08000" y="404640"/>
            <a:ext cx="8928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</a:rPr>
              <a:t>9</a:t>
            </a:r>
            <a:r>
              <a:rPr b="1" lang="en-US" sz="7200" spc="-1" strike="noStrike">
                <a:solidFill>
                  <a:srgbClr val="333333"/>
                </a:solidFill>
                <a:latin typeface="Arial"/>
                <a:ea typeface="Arial"/>
              </a:rPr>
              <a:t>o=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3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″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+3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■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(2а,ы)+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6</a:t>
            </a:r>
            <a:r>
              <a:rPr b="1" lang="el-GR" sz="7200" spc="-1" strike="noStrike">
                <a:solidFill>
                  <a:srgbClr val="333333"/>
                </a:solidFill>
                <a:latin typeface="Arial"/>
                <a:ea typeface="Arial"/>
              </a:rPr>
              <a:t>▲</a:t>
            </a:r>
            <a:r>
              <a:rPr b="1" lang="kk-KZ" sz="7200" spc="-1" strike="noStrike">
                <a:solidFill>
                  <a:srgbClr val="333333"/>
                </a:solidFill>
                <a:latin typeface="Arial"/>
                <a:ea typeface="Arial"/>
              </a:rPr>
              <a:t>(с,л,қ,н,д,у).</a:t>
            </a: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rId1" action="ppaction://hlinksldjump"/>
          </p:cNvPr>
          <p:cNvSpPr/>
          <p:nvPr/>
        </p:nvSpPr>
        <p:spPr>
          <a:xfrm>
            <a:off x="6019920" y="5410080"/>
            <a:ext cx="2209680" cy="838440"/>
          </a:xfrm>
          <a:custGeom>
            <a:avLst/>
            <a:gdLst>
              <a:gd name="textAreaLeft" fmla="*/ 54360 w 2209680"/>
              <a:gd name="textAreaRight" fmla="*/ 2155320 w 220968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6911" h="21600">
                <a:moveTo>
                  <a:pt x="0" y="0"/>
                </a:moveTo>
                <a:lnTo>
                  <a:pt x="56911" y="0"/>
                </a:lnTo>
                <a:lnTo>
                  <a:pt x="56911" y="21600"/>
                </a:lnTo>
                <a:lnTo>
                  <a:pt x="0" y="21600"/>
                </a:lnTo>
                <a:close/>
              </a:path>
              <a:path fill="lightenLess" w="56911" h="21600">
                <a:moveTo>
                  <a:pt x="0" y="0"/>
                </a:moveTo>
                <a:lnTo>
                  <a:pt x="56911" y="0"/>
                </a:lnTo>
                <a:lnTo>
                  <a:pt x="55511" y="1400"/>
                </a:lnTo>
                <a:lnTo>
                  <a:pt x="1400" y="1400"/>
                </a:lnTo>
                <a:close/>
              </a:path>
              <a:path fill="darken" w="56911" h="21600">
                <a:moveTo>
                  <a:pt x="56911" y="0"/>
                </a:moveTo>
                <a:lnTo>
                  <a:pt x="56911" y="21600"/>
                </a:lnTo>
                <a:lnTo>
                  <a:pt x="55511" y="20200"/>
                </a:lnTo>
                <a:lnTo>
                  <a:pt x="55511" y="1400"/>
                </a:lnTo>
                <a:close/>
              </a:path>
              <a:path fill="darkenLess" w="56911" h="21600">
                <a:moveTo>
                  <a:pt x="569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511" y="20200"/>
                </a:lnTo>
                <a:close/>
              </a:path>
              <a:path fill="lighten" w="569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911" h="21600">
                <a:moveTo>
                  <a:pt x="21449" y="10800"/>
                </a:moveTo>
                <a:lnTo>
                  <a:pt x="35462" y="3794"/>
                </a:lnTo>
                <a:lnTo>
                  <a:pt x="3546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Rectangle 5"/>
          <p:cNvSpPr/>
          <p:nvPr/>
        </p:nvSpPr>
        <p:spPr>
          <a:xfrm>
            <a:off x="1476360" y="1628640"/>
            <a:ext cx="5137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3300"/>
                </a:solidFill>
                <a:latin typeface="Arial"/>
              </a:rPr>
              <a:t>аш-са (ашша)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rId1" action="ppaction://hlinksldjump"/>
          </p:cNvPr>
          <p:cNvSpPr/>
          <p:nvPr/>
        </p:nvSpPr>
        <p:spPr>
          <a:xfrm>
            <a:off x="5410080" y="579132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3505320" y="31204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кітапхана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379080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96" name="Picture 9" descr="j0298897"/>
          <p:cNvPicPr/>
          <p:nvPr/>
        </p:nvPicPr>
        <p:blipFill>
          <a:blip r:embed="rId2"/>
          <a:stretch/>
        </p:blipFill>
        <p:spPr>
          <a:xfrm>
            <a:off x="468360" y="2421000"/>
            <a:ext cx="31687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684360" y="2421000"/>
            <a:ext cx="64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145d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145d9"/>
                </a:solidFill>
                <a:latin typeface="Arial"/>
              </a:rPr>
              <a:t>Ой,сөз, дыбыс, тіркес екпіндері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AutoShape 11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8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Text Box 6"/>
          <p:cNvSpPr/>
          <p:nvPr/>
        </p:nvSpPr>
        <p:spPr>
          <a:xfrm>
            <a:off x="755640" y="1989000"/>
            <a:ext cx="70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Жемістер -жіңішке буынды сөз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08000" y="3692520"/>
            <a:ext cx="410364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9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971640" y="1844640"/>
            <a:ext cx="6913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4145d9"/>
                </a:solidFill>
                <a:latin typeface="Times New Roman"/>
              </a:rPr>
              <a:t>Буын үндестігіне бағынбайтын жұрнақ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0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900000" y="2997360"/>
            <a:ext cx="61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ӘЛІПБИ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1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395280" y="1989000"/>
            <a:ext cx="8569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74123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74123"/>
                </a:solidFill>
                <a:latin typeface="Times New Roman"/>
              </a:rPr>
              <a:t>1929 жылға дейін араб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74123"/>
                </a:solidFill>
                <a:latin typeface="Times New Roman"/>
              </a:rPr>
              <a:t>1940 жылға дейін латын,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74123"/>
                </a:solidFill>
                <a:latin typeface="Times New Roman"/>
              </a:rPr>
              <a:t>1940 жылдан бері кириллица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AutoShape 4">
            <a:hlinkClick r:id="rId1" action="ppaction://hlinksldjump"/>
          </p:cNvPr>
          <p:cNvSpPr/>
          <p:nvPr/>
        </p:nvSpPr>
        <p:spPr>
          <a:xfrm>
            <a:off x="4419720" y="579132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00720" y="5943600"/>
            <a:ext cx="160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4920" y="1981080"/>
            <a:ext cx="54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Жұп дауыссыздарды ата.</a:t>
            </a:r>
            <a:r>
              <a:rPr b="0" lang="ru-RU" sz="4000" spc="-1" strike="noStrike" u="sng">
                <a:solidFill>
                  <a:srgbClr val="ae4828"/>
                </a:solidFill>
                <a:uFillTx/>
                <a:latin typeface="Arial"/>
                <a:hlinkClick r:id="rId2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3"/>
          <a:stretch/>
        </p:blipFill>
        <p:spPr>
          <a:xfrm>
            <a:off x="5651640" y="2809800"/>
            <a:ext cx="299700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2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15" name="Picture 9" descr="j0090386"/>
          <p:cNvPicPr/>
          <p:nvPr/>
        </p:nvPicPr>
        <p:blipFill>
          <a:blip r:embed="rId2"/>
          <a:stretch/>
        </p:blipFill>
        <p:spPr>
          <a:xfrm>
            <a:off x="1187280" y="4548240"/>
            <a:ext cx="3168720" cy="204948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95280" y="2217600"/>
            <a:ext cx="1026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800" spc="-1" strike="noStrike">
                <a:solidFill>
                  <a:srgbClr val="f74123"/>
                </a:solidFill>
                <a:latin typeface="Times New Roman"/>
              </a:rPr>
              <a:t>Себебі, жіңішке нұсқасы жоқ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3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033280" y="2792520"/>
            <a:ext cx="309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74123"/>
                </a:solidFill>
                <a:latin typeface="Times New Roman"/>
              </a:rPr>
              <a:t>ЕШКІМ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4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692360" y="2719440"/>
            <a:ext cx="596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f74123"/>
                </a:solidFill>
                <a:latin typeface="Times New Roman"/>
              </a:rPr>
              <a:t>ОРАЛ  тауы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5-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5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25" name="Picture 18" descr="j0304933"/>
          <p:cNvPicPr/>
          <p:nvPr/>
        </p:nvPicPr>
        <p:blipFill>
          <a:blip r:embed="rId2"/>
          <a:stretch/>
        </p:blipFill>
        <p:spPr>
          <a:xfrm>
            <a:off x="0" y="5189400"/>
            <a:ext cx="1819440" cy="166860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84360" y="2073240"/>
            <a:ext cx="8456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1-ауыспалы осы шақ; 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74123"/>
                </a:solidFill>
                <a:latin typeface="Times New Roman"/>
              </a:rPr>
              <a:t>2-ауыспалы келер шақ.</a:t>
            </a:r>
            <a:endParaRPr b="0" lang="en-US" sz="5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6">
            <a:hlinkClick r:id="rId1" action="ppaction://hlinksldjump"/>
          </p:cNvPr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178720" y="2460600"/>
            <a:ext cx="599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Жалғау  көп (4 түрі  бар)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54900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7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6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2" name="Picture 12" descr="j0335112"/>
          <p:cNvPicPr/>
          <p:nvPr/>
        </p:nvPicPr>
        <p:blipFill>
          <a:blip r:embed="rId1"/>
          <a:stretch/>
        </p:blipFill>
        <p:spPr>
          <a:xfrm>
            <a:off x="1187280" y="4253040"/>
            <a:ext cx="2448000" cy="22716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887480" y="2100240"/>
            <a:ext cx="449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Домала+қ,  ақса+қ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7772400" cy="108108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8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6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Text Box 10"/>
          <p:cNvSpPr/>
          <p:nvPr/>
        </p:nvSpPr>
        <p:spPr>
          <a:xfrm>
            <a:off x="324000" y="1268280"/>
            <a:ext cx="7704000" cy="53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Қынап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гізгі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т есім,</a:t>
            </a: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Ы</a:t>
            </a:r>
            <a:r>
              <a:rPr b="1" lang="kk-KZ" sz="3200" spc="-1" strike="noStrike">
                <a:solidFill>
                  <a:srgbClr val="333333"/>
                </a:solidFill>
                <a:latin typeface="Arial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Arial"/>
              </a:rPr>
              <a:t>тәуелдік</a:t>
            </a:r>
            <a:r>
              <a:rPr b="1" lang="kk-KZ" sz="4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ж.,  ІІІ жағы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нан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шығыс септігі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қылыш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негізгі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зат есім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3200" spc="-1" strike="noStrike">
                <a:solidFill>
                  <a:srgbClr val="ff3300"/>
                </a:solidFill>
                <a:latin typeface="Times New Roman"/>
              </a:rPr>
              <a:t>Ы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тәуелдік   ж.,</a:t>
            </a:r>
            <a:r>
              <a:rPr b="1" lang="kk-KZ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ІІІ жағы,</a:t>
            </a:r>
            <a:r>
              <a:rPr b="0" lang="kk-KZ" sz="1800" spc="-1" strike="noStrike">
                <a:solidFill>
                  <a:srgbClr val="333333"/>
                </a:solidFill>
                <a:latin typeface="Arial"/>
              </a:rPr>
              <a:t>  </a:t>
            </a: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н-</a:t>
            </a:r>
            <a:r>
              <a:rPr b="0" lang="kk-KZ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табыс септігі,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суыр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-негізгі етістік, </a:t>
            </a:r>
            <a:r>
              <a:rPr b="1" lang="kk-KZ" sz="4000" spc="-1" strike="noStrike">
                <a:solidFill>
                  <a:srgbClr val="ff3300"/>
                </a:solidFill>
                <a:latin typeface="Times New Roman"/>
              </a:rPr>
              <a:t>-ды</a:t>
            </a:r>
            <a:r>
              <a:rPr b="1" lang="kk-KZ" sz="3200" spc="-1" strike="noStrike">
                <a:solidFill>
                  <a:srgbClr val="000000"/>
                </a:solidFill>
                <a:latin typeface="Times New Roman"/>
              </a:rPr>
              <a:t> –жедел өткен шақ 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9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39" name="Picture 9" descr="j0293844"/>
          <p:cNvPicPr/>
          <p:nvPr/>
        </p:nvPicPr>
        <p:blipFill>
          <a:blip r:embed="rId1"/>
          <a:stretch/>
        </p:blipFill>
        <p:spPr>
          <a:xfrm>
            <a:off x="250920" y="4724280"/>
            <a:ext cx="1738080" cy="18273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258920" y="2133720"/>
            <a:ext cx="655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ff3300"/>
                </a:solidFill>
                <a:latin typeface="Times New Roman"/>
              </a:rPr>
              <a:t>-тық,-тік, -дық, -дік:</a:t>
            </a:r>
            <a:r>
              <a:rPr b="1" lang="kk-KZ" sz="4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800" spc="-1" strike="noStrike">
                <a:solidFill>
                  <a:srgbClr val="000000"/>
                </a:solidFill>
                <a:latin typeface="Times New Roman"/>
              </a:rPr>
              <a:t>дос+тық, адам+дық..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0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900000" y="1989000"/>
            <a:ext cx="7632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3300"/>
                </a:solidFill>
                <a:latin typeface="Arial"/>
              </a:rPr>
              <a:t>Морфология</a:t>
            </a:r>
            <a:r>
              <a:rPr b="1" lang="ru-RU" sz="6000" spc="-1" strike="noStrike">
                <a:solidFill>
                  <a:srgbClr val="333333"/>
                </a:solidFill>
                <a:latin typeface="Arial"/>
              </a:rPr>
              <a:t> – сөз таптарын, сөз құрамын зерттейді.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4" name="Picture 7" descr=""/>
          <p:cNvPicPr/>
          <p:nvPr/>
        </p:nvPicPr>
        <p:blipFill>
          <a:blip r:embed="rId1"/>
          <a:stretch/>
        </p:blipFill>
        <p:spPr>
          <a:xfrm>
            <a:off x="838836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4745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1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116000" y="1989000"/>
            <a:ext cx="763272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3300"/>
                </a:solidFill>
                <a:uFillTx/>
                <a:latin typeface="Arial"/>
              </a:rPr>
              <a:t>-ма, -ме, -ба, -бе, -па, -пе: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4145d9"/>
                </a:solidFill>
                <a:uFillTx/>
                <a:latin typeface="Times New Roman"/>
              </a:rPr>
              <a:t>1.Көрме, сүзбе, кеспе(зат  есім);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 u="sng">
                <a:solidFill>
                  <a:srgbClr val="4145d9"/>
                </a:solidFill>
                <a:uFillTx/>
                <a:latin typeface="Times New Roman"/>
              </a:rPr>
              <a:t>2.Көрме, сүзбе, кеспе(етістік);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48" name="Picture 7" descr="doc17"/>
          <p:cNvPicPr/>
          <p:nvPr/>
        </p:nvPicPr>
        <p:blipFill>
          <a:blip r:embed="rId1"/>
          <a:stretch/>
        </p:blipFill>
        <p:spPr>
          <a:xfrm>
            <a:off x="250920" y="4933800"/>
            <a:ext cx="2376360" cy="19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AutoShape 4">
            <a:hlinkClick r:id="rId1" action="ppaction://hlinksldjump"/>
          </p:cNvPr>
          <p:cNvSpPr/>
          <p:nvPr/>
        </p:nvSpPr>
        <p:spPr>
          <a:xfrm>
            <a:off x="3851280" y="5445000"/>
            <a:ext cx="3505320" cy="914400"/>
          </a:xfrm>
          <a:custGeom>
            <a:avLst/>
            <a:gdLst>
              <a:gd name="textAreaLeft" fmla="*/ 59040 w 3505320"/>
              <a:gd name="textAreaRight" fmla="*/ 3446280 w 35053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9" h="21600">
                <a:moveTo>
                  <a:pt x="0" y="0"/>
                </a:moveTo>
                <a:lnTo>
                  <a:pt x="82779" y="0"/>
                </a:lnTo>
                <a:lnTo>
                  <a:pt x="82779" y="21600"/>
                </a:lnTo>
                <a:lnTo>
                  <a:pt x="0" y="21600"/>
                </a:lnTo>
                <a:close/>
              </a:path>
              <a:path fill="lightenLess" w="82779" h="21600">
                <a:moveTo>
                  <a:pt x="0" y="0"/>
                </a:moveTo>
                <a:lnTo>
                  <a:pt x="82779" y="0"/>
                </a:lnTo>
                <a:lnTo>
                  <a:pt x="81379" y="1400"/>
                </a:lnTo>
                <a:lnTo>
                  <a:pt x="1400" y="1400"/>
                </a:lnTo>
                <a:close/>
              </a:path>
              <a:path fill="darken" w="82779" h="21600">
                <a:moveTo>
                  <a:pt x="82779" y="0"/>
                </a:moveTo>
                <a:lnTo>
                  <a:pt x="82779" y="21600"/>
                </a:lnTo>
                <a:lnTo>
                  <a:pt x="81379" y="20200"/>
                </a:lnTo>
                <a:lnTo>
                  <a:pt x="81379" y="1400"/>
                </a:lnTo>
                <a:close/>
              </a:path>
              <a:path fill="darkenLess" w="82779" h="21600">
                <a:moveTo>
                  <a:pt x="827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9" y="20200"/>
                </a:lnTo>
                <a:close/>
              </a:path>
              <a:path fill="lighten" w="827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9" h="21600">
                <a:moveTo>
                  <a:pt x="34383" y="10800"/>
                </a:moveTo>
                <a:lnTo>
                  <a:pt x="48396" y="3794"/>
                </a:lnTo>
                <a:lnTo>
                  <a:pt x="4839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809880" y="571500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3" name="Picture 6" descr="man86"/>
          <p:cNvPicPr/>
          <p:nvPr/>
        </p:nvPicPr>
        <p:blipFill>
          <a:blip r:embed="rId2"/>
          <a:stretch/>
        </p:blipFill>
        <p:spPr>
          <a:xfrm>
            <a:off x="762120" y="2133720"/>
            <a:ext cx="1942920" cy="3343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7"/>
          <p:cNvSpPr/>
          <p:nvPr/>
        </p:nvSpPr>
        <p:spPr>
          <a:xfrm>
            <a:off x="3048120" y="1981080"/>
            <a:ext cx="579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“</a:t>
            </a:r>
            <a:r>
              <a:rPr b="1" lang="kk-KZ" sz="4000" spc="-1" strike="noStrike">
                <a:solidFill>
                  <a:srgbClr val="333333"/>
                </a:solidFill>
                <a:latin typeface="Arial"/>
              </a:rPr>
              <a:t>Салқындау”сөзіне фонетикалық талдау жасаңыз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2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24000" y="1989000"/>
            <a:ext cx="8820000" cy="27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         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ау(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ы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)л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ымыз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да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ru-RU" sz="4000" spc="-1" strike="noStrike">
                <a:solidFill>
                  <a:srgbClr val="333333"/>
                </a:solidFill>
                <a:latin typeface="Arial"/>
              </a:rPr>
              <a:t>ғы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        ∩ 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Π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Π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l-GR" sz="4400" spc="-1" strike="noStrike">
                <a:solidFill>
                  <a:srgbClr val="333333"/>
                </a:solidFill>
                <a:latin typeface="Times New Roman"/>
              </a:rPr>
              <a:t>Λ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3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Text Box 16"/>
          <p:cNvSpPr/>
          <p:nvPr/>
        </p:nvSpPr>
        <p:spPr>
          <a:xfrm>
            <a:off x="395280" y="2349360"/>
            <a:ext cx="828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333333"/>
                </a:solidFill>
                <a:latin typeface="Arial"/>
              </a:rPr>
              <a:t>-ғалы, -гелі, -қалы, -келі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55" name="Picture 25" descr="j0199283"/>
          <p:cNvPicPr/>
          <p:nvPr/>
        </p:nvPicPr>
        <p:blipFill>
          <a:blip r:embed="rId1"/>
          <a:stretch/>
        </p:blipFill>
        <p:spPr>
          <a:xfrm>
            <a:off x="6227640" y="2997360"/>
            <a:ext cx="216072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685440"/>
            <a:ext cx="7772400" cy="1143000"/>
          </a:xfrm>
          <a:prstGeom prst="rect">
            <a:avLst/>
          </a:prstGeom>
          <a:solidFill>
            <a:srgbClr val="4145d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4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39640" y="2421000"/>
            <a:ext cx="770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Өздікте қимыл іс иесіне қатысты,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ырықсызда иесі белгісіз. </a:t>
            </a:r>
            <a:endParaRPr b="1" i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5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979640" y="2841480"/>
            <a:ext cx="7297560" cy="93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Segoe UI"/>
              </a:rPr>
              <a:t>Ә.Тәжібаев "Толағай"                </a:t>
            </a:r>
            <a:endParaRPr b="1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Segoe UI"/>
              <a:ea typeface="Segoe U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6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5"/>
          <p:cNvSpPr/>
          <p:nvPr/>
        </p:nvSpPr>
        <p:spPr>
          <a:xfrm>
            <a:off x="6948360" y="5589720"/>
            <a:ext cx="1963800" cy="838080"/>
          </a:xfrm>
          <a:custGeom>
            <a:avLst/>
            <a:gdLst>
              <a:gd name="textAreaLeft" fmla="*/ 54000 w 1963800"/>
              <a:gd name="textAreaRight" fmla="*/ 1909800 w 1963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0601" h="21600">
                <a:moveTo>
                  <a:pt x="0" y="0"/>
                </a:moveTo>
                <a:lnTo>
                  <a:pt x="50601" y="0"/>
                </a:lnTo>
                <a:lnTo>
                  <a:pt x="50601" y="21600"/>
                </a:lnTo>
                <a:lnTo>
                  <a:pt x="0" y="21600"/>
                </a:lnTo>
                <a:close/>
              </a:path>
              <a:path fill="lightenLess" w="50601" h="21600">
                <a:moveTo>
                  <a:pt x="0" y="0"/>
                </a:moveTo>
                <a:lnTo>
                  <a:pt x="50601" y="0"/>
                </a:lnTo>
                <a:lnTo>
                  <a:pt x="49201" y="1400"/>
                </a:lnTo>
                <a:lnTo>
                  <a:pt x="1400" y="1400"/>
                </a:lnTo>
                <a:close/>
              </a:path>
              <a:path fill="darken" w="50601" h="21600">
                <a:moveTo>
                  <a:pt x="50601" y="0"/>
                </a:moveTo>
                <a:lnTo>
                  <a:pt x="50601" y="21600"/>
                </a:lnTo>
                <a:lnTo>
                  <a:pt x="49201" y="20200"/>
                </a:lnTo>
                <a:lnTo>
                  <a:pt x="49201" y="1400"/>
                </a:lnTo>
                <a:close/>
              </a:path>
              <a:path fill="darkenLess" w="50601" h="21600">
                <a:moveTo>
                  <a:pt x="50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201" y="20200"/>
                </a:lnTo>
                <a:close/>
              </a:path>
              <a:path fill="lighten" w="50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601" h="21600">
                <a:moveTo>
                  <a:pt x="18294" y="10800"/>
                </a:moveTo>
                <a:lnTo>
                  <a:pt x="32307" y="3794"/>
                </a:lnTo>
                <a:lnTo>
                  <a:pt x="32307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Text Box 9"/>
          <p:cNvSpPr/>
          <p:nvPr/>
        </p:nvSpPr>
        <p:spPr>
          <a:xfrm>
            <a:off x="1403280" y="184464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87480" y="1979640"/>
            <a:ext cx="6308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Кебенек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– жауыннан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қорғайтын жеңіл  киім,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сулық;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ff3300"/>
                </a:solidFill>
                <a:latin typeface="Times New Roman"/>
              </a:rPr>
              <a:t>Кебін</a:t>
            </a: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 -өлген адамға  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333333"/>
                </a:solidFill>
                <a:latin typeface="Times New Roman"/>
              </a:rPr>
              <a:t>кигізілетін соңғы киім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7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5"/>
          <p:cNvSpPr/>
          <p:nvPr/>
        </p:nvSpPr>
        <p:spPr>
          <a:xfrm>
            <a:off x="6019920" y="579132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Text Box 6"/>
          <p:cNvSpPr/>
          <p:nvPr/>
        </p:nvSpPr>
        <p:spPr>
          <a:xfrm>
            <a:off x="1619280" y="1989000"/>
            <a:ext cx="7524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835280" y="3164040"/>
            <a:ext cx="6984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66"/>
                </a:solidFill>
                <a:latin typeface="Arial"/>
              </a:rPr>
              <a:t>Элегия -мұңды, қайғылы  өлең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c66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8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/>
          <p:cNvSpPr/>
          <p:nvPr/>
        </p:nvSpPr>
        <p:spPr>
          <a:xfrm>
            <a:off x="5943600" y="5486400"/>
            <a:ext cx="2971800" cy="838080"/>
          </a:xfrm>
          <a:custGeom>
            <a:avLst/>
            <a:gdLst>
              <a:gd name="textAreaLeft" fmla="*/ 54000 w 2971800"/>
              <a:gd name="textAreaRight" fmla="*/ 2917800 w 29718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76569" h="21600">
                <a:moveTo>
                  <a:pt x="0" y="0"/>
                </a:moveTo>
                <a:lnTo>
                  <a:pt x="76569" y="0"/>
                </a:lnTo>
                <a:lnTo>
                  <a:pt x="76569" y="21600"/>
                </a:lnTo>
                <a:lnTo>
                  <a:pt x="0" y="21600"/>
                </a:lnTo>
                <a:close/>
              </a:path>
              <a:path fill="lightenLess" w="76569" h="21600">
                <a:moveTo>
                  <a:pt x="0" y="0"/>
                </a:moveTo>
                <a:lnTo>
                  <a:pt x="76569" y="0"/>
                </a:lnTo>
                <a:lnTo>
                  <a:pt x="75169" y="1400"/>
                </a:lnTo>
                <a:lnTo>
                  <a:pt x="1400" y="1400"/>
                </a:lnTo>
                <a:close/>
              </a:path>
              <a:path fill="darken" w="76569" h="21600">
                <a:moveTo>
                  <a:pt x="76569" y="0"/>
                </a:moveTo>
                <a:lnTo>
                  <a:pt x="76569" y="21600"/>
                </a:lnTo>
                <a:lnTo>
                  <a:pt x="75169" y="20200"/>
                </a:lnTo>
                <a:lnTo>
                  <a:pt x="75169" y="1400"/>
                </a:lnTo>
                <a:close/>
              </a:path>
              <a:path fill="darkenLess" w="76569" h="21600">
                <a:moveTo>
                  <a:pt x="765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69" y="20200"/>
                </a:lnTo>
                <a:close/>
              </a:path>
              <a:path fill="lighten" w="765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69" h="21600">
                <a:moveTo>
                  <a:pt x="31278" y="10800"/>
                </a:moveTo>
                <a:lnTo>
                  <a:pt x="45291" y="3794"/>
                </a:lnTo>
                <a:lnTo>
                  <a:pt x="4529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1835280" y="1916280"/>
            <a:ext cx="7057800" cy="32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Қарақоға</a:t>
            </a: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–</a:t>
            </a: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сиыр  да жемейді, отқа  да жанбайды;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3300"/>
                </a:solidFill>
                <a:latin typeface="Arial"/>
              </a:rPr>
              <a:t>Сауысқан</a:t>
            </a:r>
            <a:r>
              <a:rPr b="1" lang="kk-KZ" sz="3200" spc="-1" strike="noStrike">
                <a:solidFill>
                  <a:srgbClr val="333333"/>
                </a:solidFill>
                <a:latin typeface="Arial"/>
              </a:rPr>
              <a:t> –</a:t>
            </a:r>
            <a:r>
              <a:rPr b="1" lang="kk-KZ" sz="3600" spc="-1" strike="noStrike">
                <a:solidFill>
                  <a:srgbClr val="333333"/>
                </a:solidFill>
                <a:latin typeface="Arial"/>
              </a:rPr>
              <a:t>бірігіп ұшпайды, екеу болып қонбайды, ынтымақсыз.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29 -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tretch/>
        </p:blipFill>
        <p:spPr>
          <a:xfrm>
            <a:off x="1371240" y="2768400"/>
            <a:ext cx="3809880" cy="253980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Text Box 6"/>
          <p:cNvSpPr/>
          <p:nvPr/>
        </p:nvSpPr>
        <p:spPr>
          <a:xfrm>
            <a:off x="1332000" y="2421000"/>
            <a:ext cx="74167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ae4828"/>
                </a:solidFill>
                <a:latin typeface="Arial"/>
              </a:rPr>
              <a:t>«Қобыланды»  жырында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ae4828"/>
                </a:solidFill>
                <a:latin typeface="Arial"/>
              </a:rPr>
              <a:t>Қараман Қобыландының намысын қайрайды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kk-KZ" sz="40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68360" y="2565360"/>
            <a:ext cx="561672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Times New Roman"/>
              </a:rPr>
              <a:t>31-қарасөзі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1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795320" y="2492280"/>
            <a:ext cx="630576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"/>
              </a:rPr>
              <a:t>Б.Майлин.  "Дайрабайдың...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404280"/>
            <a:ext cx="8064720" cy="86364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AutoShape 4">
            <a:hlinkClick r:id="rId1" action="ppaction://hlinksldjump"/>
          </p:cNvPr>
          <p:cNvSpPr/>
          <p:nvPr/>
        </p:nvSpPr>
        <p:spPr>
          <a:xfrm>
            <a:off x="6156360" y="5805360"/>
            <a:ext cx="1800360" cy="698760"/>
          </a:xfrm>
          <a:custGeom>
            <a:avLst/>
            <a:gdLst>
              <a:gd name="textAreaLeft" fmla="*/ 45000 w 1800360"/>
              <a:gd name="textAreaRight" fmla="*/ 1755360 w 1800360"/>
              <a:gd name="textAreaTop" fmla="*/ 45000 h 698760"/>
              <a:gd name="textAreaBottom" fmla="*/ 653760 h 698760"/>
            </a:gdLst>
            <a:ahLst/>
            <a:rect l="textAreaLeft" t="textAreaTop" r="textAreaRight" b="textAreaBottom"/>
            <a:pathLst>
              <a:path w="55635" h="21600">
                <a:moveTo>
                  <a:pt x="0" y="0"/>
                </a:moveTo>
                <a:lnTo>
                  <a:pt x="55635" y="0"/>
                </a:lnTo>
                <a:lnTo>
                  <a:pt x="55635" y="21600"/>
                </a:lnTo>
                <a:lnTo>
                  <a:pt x="0" y="21600"/>
                </a:lnTo>
                <a:close/>
              </a:path>
              <a:path fill="lightenLess" w="55635" h="21600">
                <a:moveTo>
                  <a:pt x="0" y="0"/>
                </a:moveTo>
                <a:lnTo>
                  <a:pt x="55635" y="0"/>
                </a:lnTo>
                <a:lnTo>
                  <a:pt x="54235" y="1400"/>
                </a:lnTo>
                <a:lnTo>
                  <a:pt x="1400" y="1400"/>
                </a:lnTo>
                <a:close/>
              </a:path>
              <a:path fill="darken" w="55635" h="21600">
                <a:moveTo>
                  <a:pt x="55635" y="0"/>
                </a:moveTo>
                <a:lnTo>
                  <a:pt x="55635" y="21600"/>
                </a:lnTo>
                <a:lnTo>
                  <a:pt x="54235" y="20200"/>
                </a:lnTo>
                <a:lnTo>
                  <a:pt x="54235" y="1400"/>
                </a:lnTo>
                <a:close/>
              </a:path>
              <a:path fill="darkenLess" w="55635" h="21600">
                <a:moveTo>
                  <a:pt x="556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235" y="20200"/>
                </a:lnTo>
                <a:close/>
              </a:path>
              <a:path fill="lighten" w="556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635" h="21600">
                <a:moveTo>
                  <a:pt x="20811" y="10800"/>
                </a:moveTo>
                <a:lnTo>
                  <a:pt x="34824" y="3794"/>
                </a:lnTo>
                <a:lnTo>
                  <a:pt x="34824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4572000" y="59500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1332000" y="1374120"/>
            <a:ext cx="6119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Ілгерінді ықпалды табыңыз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А)тас жол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Б) ақ лақ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В) ашса.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85800" y="49032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 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2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WordArt 7"/>
          <p:cNvSpPr txBox="1"/>
          <p:nvPr/>
        </p:nvSpPr>
        <p:spPr>
          <a:xfrm rot="20892600">
            <a:off x="2195640" y="2781000"/>
            <a:ext cx="662436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Біржан  салмен  кездесуінен соң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3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WordArt 7"/>
          <p:cNvSpPr txBox="1"/>
          <p:nvPr/>
        </p:nvSpPr>
        <p:spPr>
          <a:xfrm>
            <a:off x="1763640" y="2565360"/>
            <a:ext cx="669600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Ғ.Мүсірепов "Жапон балладасы"</a:t>
            </a:r>
            <a:endParaRPr b="1" lang="en-US" sz="1800" spc="1" strike="noStrike">
              <a:ln w="0">
                <a:noFill/>
              </a:ln>
              <a:solidFill>
                <a:srgbClr val="0033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4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5"/>
          <p:cNvSpPr/>
          <p:nvPr/>
        </p:nvSpPr>
        <p:spPr>
          <a:xfrm>
            <a:off x="7164360" y="5589720"/>
            <a:ext cx="1979640" cy="838080"/>
          </a:xfrm>
          <a:custGeom>
            <a:avLst/>
            <a:gdLst>
              <a:gd name="textAreaLeft" fmla="*/ 54000 w 1979640"/>
              <a:gd name="textAreaRight" fmla="*/ 1925640 w 19796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51009" h="21600">
                <a:moveTo>
                  <a:pt x="0" y="0"/>
                </a:moveTo>
                <a:lnTo>
                  <a:pt x="51009" y="0"/>
                </a:lnTo>
                <a:lnTo>
                  <a:pt x="51009" y="21600"/>
                </a:lnTo>
                <a:lnTo>
                  <a:pt x="0" y="21600"/>
                </a:lnTo>
                <a:close/>
              </a:path>
              <a:path fill="lightenLess" w="51009" h="21600">
                <a:moveTo>
                  <a:pt x="0" y="0"/>
                </a:moveTo>
                <a:lnTo>
                  <a:pt x="51009" y="0"/>
                </a:lnTo>
                <a:lnTo>
                  <a:pt x="49609" y="1400"/>
                </a:lnTo>
                <a:lnTo>
                  <a:pt x="1400" y="1400"/>
                </a:lnTo>
                <a:close/>
              </a:path>
              <a:path fill="darken" w="51009" h="21600">
                <a:moveTo>
                  <a:pt x="51009" y="0"/>
                </a:moveTo>
                <a:lnTo>
                  <a:pt x="51009" y="21600"/>
                </a:lnTo>
                <a:lnTo>
                  <a:pt x="49609" y="20200"/>
                </a:lnTo>
                <a:lnTo>
                  <a:pt x="49609" y="1400"/>
                </a:lnTo>
                <a:close/>
              </a:path>
              <a:path fill="darkenLess" w="51009" h="21600">
                <a:moveTo>
                  <a:pt x="510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609" y="20200"/>
                </a:lnTo>
                <a:close/>
              </a:path>
              <a:path fill="lighten" w="510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009" h="21600">
                <a:moveTo>
                  <a:pt x="18498" y="10800"/>
                </a:moveTo>
                <a:lnTo>
                  <a:pt x="32511" y="3794"/>
                </a:lnTo>
                <a:lnTo>
                  <a:pt x="32511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905120" y="2492280"/>
            <a:ext cx="597996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Бауыржан  Момышұл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5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5"/>
          <p:cNvSpPr/>
          <p:nvPr/>
        </p:nvSpPr>
        <p:spPr>
          <a:xfrm>
            <a:off x="5435640" y="5445000"/>
            <a:ext cx="2971800" cy="838440"/>
          </a:xfrm>
          <a:custGeom>
            <a:avLst/>
            <a:gdLst>
              <a:gd name="textAreaLeft" fmla="*/ 54360 w 2971800"/>
              <a:gd name="textAreaRight" fmla="*/ 2917440 w 29718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76536" h="21600">
                <a:moveTo>
                  <a:pt x="0" y="0"/>
                </a:moveTo>
                <a:lnTo>
                  <a:pt x="76536" y="0"/>
                </a:lnTo>
                <a:lnTo>
                  <a:pt x="76536" y="21600"/>
                </a:lnTo>
                <a:lnTo>
                  <a:pt x="0" y="21600"/>
                </a:lnTo>
                <a:close/>
              </a:path>
              <a:path fill="lightenLess" w="76536" h="21600">
                <a:moveTo>
                  <a:pt x="0" y="0"/>
                </a:moveTo>
                <a:lnTo>
                  <a:pt x="76536" y="0"/>
                </a:lnTo>
                <a:lnTo>
                  <a:pt x="75136" y="1400"/>
                </a:lnTo>
                <a:lnTo>
                  <a:pt x="1400" y="1400"/>
                </a:lnTo>
                <a:close/>
              </a:path>
              <a:path fill="darken" w="76536" h="21600">
                <a:moveTo>
                  <a:pt x="76536" y="0"/>
                </a:moveTo>
                <a:lnTo>
                  <a:pt x="76536" y="21600"/>
                </a:lnTo>
                <a:lnTo>
                  <a:pt x="75136" y="20200"/>
                </a:lnTo>
                <a:lnTo>
                  <a:pt x="75136" y="1400"/>
                </a:lnTo>
                <a:close/>
              </a:path>
              <a:path fill="darkenLess" w="76536" h="21600">
                <a:moveTo>
                  <a:pt x="765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5136" y="20200"/>
                </a:lnTo>
                <a:close/>
              </a:path>
              <a:path fill="lighten" w="765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6536" h="21600">
                <a:moveTo>
                  <a:pt x="31262" y="10800"/>
                </a:moveTo>
                <a:lnTo>
                  <a:pt x="45275" y="3794"/>
                </a:lnTo>
                <a:lnTo>
                  <a:pt x="45275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42880" y="2637000"/>
            <a:ext cx="701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660066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Менің атым ҚОЖА" (Қожа)</a:t>
            </a:r>
            <a:endParaRPr b="1" lang="en-US" sz="1800" spc="1" strike="noStrike">
              <a:ln w="0">
                <a:noFill/>
              </a:ln>
              <a:solidFill>
                <a:srgbClr val="660066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57480" y="609120"/>
            <a:ext cx="7772400" cy="1143000"/>
          </a:xfrm>
          <a:prstGeom prst="rect">
            <a:avLst/>
          </a:prstGeom>
          <a:solidFill>
            <a:srgbClr val="51e13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36- </a:t>
            </a:r>
            <a:r>
              <a:rPr b="1" lang="kk-KZ" sz="4400" spc="-1" strike="noStrike">
                <a:solidFill>
                  <a:srgbClr val="000000"/>
                </a:solidFill>
                <a:latin typeface="Arial"/>
              </a:rPr>
              <a:t>жау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6588000" y="5805360"/>
            <a:ext cx="2324160" cy="838440"/>
          </a:xfrm>
          <a:custGeom>
            <a:avLst/>
            <a:gdLst>
              <a:gd name="textAreaLeft" fmla="*/ 54360 w 2324160"/>
              <a:gd name="textAreaRight" fmla="*/ 2269800 w 232416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59859" h="21600">
                <a:moveTo>
                  <a:pt x="0" y="0"/>
                </a:moveTo>
                <a:lnTo>
                  <a:pt x="59859" y="0"/>
                </a:lnTo>
                <a:lnTo>
                  <a:pt x="59859" y="21600"/>
                </a:lnTo>
                <a:lnTo>
                  <a:pt x="0" y="21600"/>
                </a:lnTo>
                <a:close/>
              </a:path>
              <a:path fill="lightenLess" w="59859" h="21600">
                <a:moveTo>
                  <a:pt x="0" y="0"/>
                </a:moveTo>
                <a:lnTo>
                  <a:pt x="59859" y="0"/>
                </a:lnTo>
                <a:lnTo>
                  <a:pt x="58459" y="1400"/>
                </a:lnTo>
                <a:lnTo>
                  <a:pt x="1400" y="1400"/>
                </a:lnTo>
                <a:close/>
              </a:path>
              <a:path fill="darken" w="59859" h="21600">
                <a:moveTo>
                  <a:pt x="59859" y="0"/>
                </a:moveTo>
                <a:lnTo>
                  <a:pt x="59859" y="21600"/>
                </a:lnTo>
                <a:lnTo>
                  <a:pt x="58459" y="20200"/>
                </a:lnTo>
                <a:lnTo>
                  <a:pt x="58459" y="1400"/>
                </a:lnTo>
                <a:close/>
              </a:path>
              <a:path fill="darkenLess" w="59859" h="21600">
                <a:moveTo>
                  <a:pt x="598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59" y="20200"/>
                </a:lnTo>
                <a:close/>
              </a:path>
              <a:path fill="lighten" w="598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859" h="21600">
                <a:moveTo>
                  <a:pt x="22923" y="10800"/>
                </a:moveTo>
                <a:lnTo>
                  <a:pt x="36936" y="3794"/>
                </a:lnTo>
                <a:lnTo>
                  <a:pt x="36936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Text Box 8"/>
          <p:cNvSpPr/>
          <p:nvPr/>
        </p:nvSpPr>
        <p:spPr>
          <a:xfrm>
            <a:off x="1403280" y="2421000"/>
            <a:ext cx="741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тырар  есігін 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ҚАРАШОҚЫ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 ашып  берген  еді.</a:t>
            </a:r>
            <a:r>
              <a:rPr b="0" lang="ru-RU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1c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1495440" y="1916280"/>
            <a:ext cx="718020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Қатысқандарыңызға 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   </a:t>
            </a:r>
            <a:r>
              <a:rPr b="1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80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рақмет!</a:t>
            </a:r>
            <a:endParaRPr b="1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80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77040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br>
              <a:rPr sz="3200"/>
            </a:br>
            <a:br>
              <a:rPr sz="1600"/>
            </a:b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Буын үндестігіне бағынбай тұрған сөзді табыңыз: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А) балалық;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Ә) жолдас; 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333333"/>
                </a:solidFill>
                <a:latin typeface="Arial"/>
              </a:rPr>
              <a:t>Б) кітапхан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AutoShape 4">
            <a:hlinkClick r:id="rId1" action="ppaction://hlinksldjump"/>
          </p:cNvPr>
          <p:cNvSpPr/>
          <p:nvPr/>
        </p:nvSpPr>
        <p:spPr>
          <a:xfrm>
            <a:off x="5148360" y="551664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5292720" y="5734080"/>
            <a:ext cx="138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5" name="Picture 8" descr="j0149407"/>
          <p:cNvPicPr/>
          <p:nvPr/>
        </p:nvPicPr>
        <p:blipFill>
          <a:blip r:embed="rId2"/>
          <a:stretch/>
        </p:blipFill>
        <p:spPr>
          <a:xfrm>
            <a:off x="250920" y="4365720"/>
            <a:ext cx="1792080" cy="21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7772400" cy="1143000"/>
          </a:xfrm>
          <a:prstGeom prst="rect">
            <a:avLst/>
          </a:prstGeom>
          <a:solidFill>
            <a:srgbClr val="eff49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-сұра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4">
            <a:hlinkClick r:id="rId1" action="ppaction://hlinksldjump"/>
          </p:cNvPr>
          <p:cNvSpPr/>
          <p:nvPr/>
        </p:nvSpPr>
        <p:spPr>
          <a:xfrm>
            <a:off x="3505320" y="5486400"/>
            <a:ext cx="3504960" cy="914400"/>
          </a:xfrm>
          <a:custGeom>
            <a:avLst/>
            <a:gdLst>
              <a:gd name="textAreaLeft" fmla="*/ 59040 w 3504960"/>
              <a:gd name="textAreaRight" fmla="*/ 3445920 w 350496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82770" h="21600">
                <a:moveTo>
                  <a:pt x="0" y="0"/>
                </a:moveTo>
                <a:lnTo>
                  <a:pt x="82770" y="0"/>
                </a:lnTo>
                <a:lnTo>
                  <a:pt x="82770" y="21600"/>
                </a:lnTo>
                <a:lnTo>
                  <a:pt x="0" y="21600"/>
                </a:lnTo>
                <a:close/>
              </a:path>
              <a:path fill="lightenLess" w="82770" h="21600">
                <a:moveTo>
                  <a:pt x="0" y="0"/>
                </a:moveTo>
                <a:lnTo>
                  <a:pt x="82770" y="0"/>
                </a:lnTo>
                <a:lnTo>
                  <a:pt x="81370" y="1400"/>
                </a:lnTo>
                <a:lnTo>
                  <a:pt x="1400" y="1400"/>
                </a:lnTo>
                <a:close/>
              </a:path>
              <a:path fill="darken" w="82770" h="21600">
                <a:moveTo>
                  <a:pt x="82770" y="0"/>
                </a:moveTo>
                <a:lnTo>
                  <a:pt x="82770" y="21600"/>
                </a:lnTo>
                <a:lnTo>
                  <a:pt x="81370" y="20200"/>
                </a:lnTo>
                <a:lnTo>
                  <a:pt x="81370" y="1400"/>
                </a:lnTo>
                <a:close/>
              </a:path>
              <a:path fill="darkenLess" w="82770" h="21600">
                <a:moveTo>
                  <a:pt x="827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1370" y="20200"/>
                </a:lnTo>
                <a:close/>
              </a:path>
              <a:path fill="lighten" w="827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2770" h="21600">
                <a:moveTo>
                  <a:pt x="34379" y="10800"/>
                </a:moveTo>
                <a:lnTo>
                  <a:pt x="48392" y="3794"/>
                </a:lnTo>
                <a:lnTo>
                  <a:pt x="48392" y="17806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64000" y="571500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333333"/>
                </a:solidFill>
                <a:latin typeface="Arial"/>
              </a:rPr>
              <a:t>жауабы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611280" y="2205000"/>
            <a:ext cx="81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33"/>
                </a:solidFill>
                <a:latin typeface="Arial"/>
              </a:rPr>
              <a:t>Екпін түрлері нешеу?.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08:51:39Z</dcterms:created>
  <dc:creator>Admin1</dc:creator>
  <dc:description/>
  <dc:language>en-US</dc:language>
  <cp:lastModifiedBy>Raigyl</cp:lastModifiedBy>
  <dcterms:modified xsi:type="dcterms:W3CDTF">2011-04-24T09:09:18Z</dcterms:modified>
  <cp:revision>8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0a000000000001024110</vt:lpwstr>
  </property>
</Properties>
</file>