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drumroll.wav" ContentType="audio/x-wav"/>
  <Override PartName="/ppt/media/image5.png" ContentType="image/png"/>
  <Override PartName="/ppt/media/image25.gif" ContentType="image/gi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3.gif" ContentType="image/gif"/>
  <Override PartName="/ppt/media/image8.gif" ContentType="image/gif"/>
  <Override PartName="/ppt/media/image21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5D3-097C-40F8-A08F-EC704CBC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E3F-0686-4984-9C33-C7A0808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F29-BEEA-4FE4-92FF-D83323ED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9F2-F3E1-4508-8CCC-42405D37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2FCF-3647-469A-B0C7-16C23877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869-22DC-47EA-939F-E0F6137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4C3E-774B-43DE-A2F2-440125E9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8FE-E65B-4DEC-B738-8DF441F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5F5-1F11-47FC-8223-03682DC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E19-631F-4771-B4AF-0BB8233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58E-F153-4CFB-A95A-ADC039F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563-C8A3-482A-BA74-DB97E6E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070-4C54-4411-8AB4-4F2B72B6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A901-24B3-49B2-829B-9456745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3CFE-CDE5-466A-B9BA-D149AF3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A9A-1775-444C-95B0-C7A43C2C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1181-8CF1-47FE-B7A4-1ADC97DE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8BB-8872-4402-8368-F17BDB8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29C-7B0D-4CF4-B21B-F481CB5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574-9054-4F03-A6C7-9332FCA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642-F3B0-47FE-8514-712714B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49E-CEFA-408E-B30B-D20B3E5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077-1735-4ABC-88CA-C868E3C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C62-95A3-4623-BA36-DDFF1E8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4DF-5774-4C79-9326-80D6BC314EF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CFB-4918-4554-BCD0-F16DA6115A98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hyperlink" Target="file:///&#1048;&#1075;&#1088;&#1072;.ppt#5. &#1042;&#1086;&#1087;&#1088;&#1086;&#1089; 3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2700360" y="836640"/>
            <a:ext cx="51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1143000" y="5934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Times New Roman"/>
              </a:rPr>
              <a:t>Құрастырған</a:t>
            </a:r>
            <a:r>
              <a:rPr b="1" i="1" lang="kk-KZ" sz="18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Нығмет Райгүл Сағидоллақыз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Сымбат” ЖМ-нің қазақ тілі мен әдебиеті пәні мұғалімі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477600">
            <a:off x="1382760" y="3660480"/>
            <a:ext cx="42717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әдеби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21469800">
            <a:off x="4498920" y="3995280"/>
            <a:ext cx="3959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орфолог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03280" y="1989000"/>
            <a:ext cx="774072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ІЛІМ  ШЫҢЫ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ртық сөзді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бала, қарақат, жемістер, ақшақар 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64000" y="571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2"/>
          <a:stretch/>
        </p:blipFill>
        <p:spPr>
          <a:xfrm>
            <a:off x="684360" y="3933720"/>
            <a:ext cx="1966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-ов, -ова,-ев,-ева,-ин,-ина жұрнақтары  қандай жұрнақтар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9880" y="57150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5292720" y="5661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435640" y="5877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55640" y="1557360"/>
            <a:ext cx="77770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Өз құрамында үш буын, жеті әріп бар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Жалпы қарауындағы әріптері құрамындағыдан алты есе көп. Ол-не?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2349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Қазақ әліпбиі неше рет өзгер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5219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92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1280" y="1989000"/>
            <a:ext cx="7416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өмектес септігі неге буын үндестігіне бағынбайды?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AutoShape 4">
            <a:hlinkClick r:id="rId1" action="ppaction://hlinksldjump"/>
          </p:cNvPr>
          <p:cNvSpPr/>
          <p:nvPr/>
        </p:nvSpPr>
        <p:spPr>
          <a:xfrm>
            <a:off x="507672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076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11280" y="198900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олымсыз есімдігі бір малдың тәуелденген түрімен аттас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867280" y="5516640"/>
            <a:ext cx="2713320" cy="914400"/>
          </a:xfrm>
          <a:custGeom>
            <a:avLst/>
            <a:gdLst>
              <a:gd name="textAreaLeft" fmla="*/ 59040 w 2713320"/>
              <a:gd name="textAreaRight" fmla="*/ 2654280 w 2713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077" h="21600">
                <a:moveTo>
                  <a:pt x="0" y="0"/>
                </a:moveTo>
                <a:lnTo>
                  <a:pt x="64077" y="0"/>
                </a:lnTo>
                <a:lnTo>
                  <a:pt x="64077" y="21600"/>
                </a:lnTo>
                <a:lnTo>
                  <a:pt x="0" y="21600"/>
                </a:lnTo>
                <a:close/>
              </a:path>
              <a:path fill="lightenLess" w="64077" h="21600">
                <a:moveTo>
                  <a:pt x="0" y="0"/>
                </a:moveTo>
                <a:lnTo>
                  <a:pt x="64077" y="0"/>
                </a:lnTo>
                <a:lnTo>
                  <a:pt x="62677" y="1400"/>
                </a:lnTo>
                <a:lnTo>
                  <a:pt x="1400" y="1400"/>
                </a:lnTo>
                <a:close/>
              </a:path>
              <a:path fill="darken" w="64077" h="21600">
                <a:moveTo>
                  <a:pt x="64077" y="0"/>
                </a:moveTo>
                <a:lnTo>
                  <a:pt x="64077" y="21600"/>
                </a:lnTo>
                <a:lnTo>
                  <a:pt x="62677" y="20200"/>
                </a:lnTo>
                <a:lnTo>
                  <a:pt x="62677" y="1400"/>
                </a:lnTo>
                <a:close/>
              </a:path>
              <a:path fill="darkenLess" w="64077" h="21600">
                <a:moveTo>
                  <a:pt x="6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77" y="20200"/>
                </a:lnTo>
                <a:close/>
              </a:path>
              <a:path fill="lighten" w="6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77" h="21600">
                <a:moveTo>
                  <a:pt x="25032" y="10800"/>
                </a:moveTo>
                <a:lnTo>
                  <a:pt x="39045" y="3794"/>
                </a:lnTo>
                <a:lnTo>
                  <a:pt x="3904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9640" y="170028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Бұйрық райдағы «қайт»сөзінің синонимі  бір таумен аттас,ол -қандай тау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9480" y="1773360"/>
            <a:ext cx="741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Оның әкесі жұмыстан келеді» мен  «Оның әкесі Алматыдан  келеді» деген сөйлемде қандай айырмашылық ба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349236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184464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4145d9"/>
                </a:solidFill>
                <a:latin typeface="Arial"/>
              </a:rPr>
              <a:t>Қазақ тілінде жұрнақ көп пе, жалғау көп пе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34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Туынды сын есімді көрсетіңіз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А)домалақ, ақсақ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Ә)домалаған, ақсаған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Б)домалама,ақсама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1280" y="1773360"/>
            <a:ext cx="5832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19" descr="j0301076"/>
          <p:cNvPicPr/>
          <p:nvPr/>
        </p:nvPicPr>
        <p:blipFill>
          <a:blip r:embed="rId2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380880"/>
          <a:ext cx="8686800" cy="59961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  <a:gridCol w="14475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</a:tbl>
          </a:graphicData>
        </a:graphic>
      </p:graphicFrame>
      <p:sp>
        <p:nvSpPr>
          <p:cNvPr id="111" name="WordArt 77"/>
          <p:cNvSpPr txBox="1"/>
          <p:nvPr/>
        </p:nvSpPr>
        <p:spPr>
          <a:xfrm>
            <a:off x="1116000" y="443700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Әдебиет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8"/>
          <p:cNvSpPr txBox="1"/>
          <p:nvPr/>
        </p:nvSpPr>
        <p:spPr>
          <a:xfrm>
            <a:off x="2124000" y="620640"/>
            <a:ext cx="5181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24000" y="2852640"/>
            <a:ext cx="5040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5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морф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98900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Морфологиялық талдау жаса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Қынабынан қылышын суырды»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0" name="Picture 7" descr="j0235241"/>
          <p:cNvPicPr/>
          <p:nvPr/>
        </p:nvPicPr>
        <p:blipFill>
          <a:blip r:embed="rId2"/>
          <a:stretch/>
        </p:blipFill>
        <p:spPr>
          <a:xfrm>
            <a:off x="395280" y="4940280"/>
            <a:ext cx="2232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2205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Зат есімнен зат есім тудырады, ол зат есім заттық ұғымның атауы болады. Жұрнақты атаңыз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26920" y="1989000"/>
            <a:ext cx="7632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орфология нені қарастырады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Етістікте де, зат есімде де бар қандай жұрнақ 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464328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4000" y="5084640"/>
            <a:ext cx="1366560" cy="1440000"/>
          </a:xfrm>
          <a:custGeom>
            <a:avLst/>
            <a:gdLst>
              <a:gd name="textAreaLeft" fmla="*/ 88560 w 1366560"/>
              <a:gd name="textAreaRight" fmla="*/ 1278000 w 1366560"/>
              <a:gd name="textAreaTop" fmla="*/ 88560 h 1440000"/>
              <a:gd name="textAreaBottom" fmla="*/ 1351440 h 1440000"/>
            </a:gdLst>
            <a:ahLst/>
            <a:rect l="textAreaLeft" t="textAreaTop" r="textAreaRight" b="textAreaBottom"/>
            <a:pathLst>
              <a:path w="21600" h="22760">
                <a:moveTo>
                  <a:pt x="0" y="0"/>
                </a:moveTo>
                <a:lnTo>
                  <a:pt x="21600" y="0"/>
                </a:lnTo>
                <a:lnTo>
                  <a:pt x="21600" y="22760"/>
                </a:lnTo>
                <a:lnTo>
                  <a:pt x="0" y="22760"/>
                </a:lnTo>
                <a:close/>
              </a:path>
              <a:path fill="lightenLess" w="21600" h="22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0">
                <a:moveTo>
                  <a:pt x="21600" y="0"/>
                </a:moveTo>
                <a:lnTo>
                  <a:pt x="21600" y="22760"/>
                </a:lnTo>
                <a:lnTo>
                  <a:pt x="20200" y="21360"/>
                </a:lnTo>
                <a:lnTo>
                  <a:pt x="20200" y="1400"/>
                </a:lnTo>
                <a:close/>
              </a:path>
              <a:path fill="darkenLess" w="21600" h="22760">
                <a:moveTo>
                  <a:pt x="21600" y="22760"/>
                </a:moveTo>
                <a:lnTo>
                  <a:pt x="0" y="22760"/>
                </a:lnTo>
                <a:lnTo>
                  <a:pt x="1400" y="21360"/>
                </a:lnTo>
                <a:lnTo>
                  <a:pt x="20200" y="21360"/>
                </a:lnTo>
                <a:close/>
              </a:path>
              <a:path fill="lighten" w="21600" h="22760">
                <a:moveTo>
                  <a:pt x="0" y="22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0"/>
                </a:lnTo>
                <a:close/>
              </a:path>
              <a:path fill="darken" w="21600" h="22760">
                <a:moveTo>
                  <a:pt x="10800" y="153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60">
                <a:moveTo>
                  <a:pt x="11905" y="14862"/>
                </a:moveTo>
                <a:lnTo>
                  <a:pt x="11905" y="12903"/>
                </a:lnTo>
                <a:cubicBezTo>
                  <a:pt x="11905" y="12077"/>
                  <a:pt x="12236" y="11380"/>
                  <a:pt x="12837" y="11380"/>
                </a:cubicBezTo>
                <a:cubicBezTo>
                  <a:pt x="13968" y="11380"/>
                  <a:pt x="14865" y="10014"/>
                  <a:pt x="14865" y="8430"/>
                </a:cubicBezTo>
                <a:cubicBezTo>
                  <a:pt x="14865" y="6115"/>
                  <a:pt x="13011" y="4374"/>
                  <a:pt x="10800" y="4374"/>
                </a:cubicBezTo>
                <a:cubicBezTo>
                  <a:pt x="8589" y="4374"/>
                  <a:pt x="6918" y="6115"/>
                  <a:pt x="6918" y="8430"/>
                </a:cubicBezTo>
                <a:lnTo>
                  <a:pt x="8772" y="8430"/>
                </a:lnTo>
                <a:cubicBezTo>
                  <a:pt x="8772" y="7290"/>
                  <a:pt x="9695" y="6402"/>
                  <a:pt x="10800" y="6402"/>
                </a:cubicBezTo>
                <a:cubicBezTo>
                  <a:pt x="11905" y="6402"/>
                  <a:pt x="12837" y="7290"/>
                  <a:pt x="12837" y="8430"/>
                </a:cubicBezTo>
                <a:cubicBezTo>
                  <a:pt x="12837" y="9170"/>
                  <a:pt x="12367" y="9901"/>
                  <a:pt x="11905" y="9901"/>
                </a:cubicBezTo>
                <a:cubicBezTo>
                  <a:pt x="10800" y="9901"/>
                  <a:pt x="9695" y="11380"/>
                  <a:pt x="9695" y="12903"/>
                </a:cubicBezTo>
                <a:lnTo>
                  <a:pt x="9695" y="14862"/>
                </a:lnTo>
                <a:close/>
              </a:path>
            </a:pathLst>
          </a:custGeom>
          <a:solidFill>
            <a:srgbClr val="51e1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11280" y="1628640"/>
            <a:ext cx="77706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Arial"/>
                <a:ea typeface="Arial"/>
              </a:rPr>
              <a:t>“∩</a:t>
            </a:r>
            <a:r>
              <a:rPr b="1" lang="el-GR" sz="4000" spc="-1" strike="noStrike">
                <a:solidFill>
                  <a:srgbClr val="333333"/>
                </a:solidFill>
                <a:latin typeface="Times New Roman"/>
              </a:rPr>
              <a:t>ΠΠΛ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” мына белгіге сай келетін сөзді көрсетіңіз: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А) балаларды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Ә)аулымыздағы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) ауылды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Көсемшенің жіктелмейтін түр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2" name="Picture 7" descr="j0295241"/>
          <p:cNvPicPr/>
          <p:nvPr/>
        </p:nvPicPr>
        <p:blipFill>
          <a:blip r:embed="rId2"/>
          <a:stretch/>
        </p:blipFill>
        <p:spPr>
          <a:xfrm>
            <a:off x="361800" y="4149720"/>
            <a:ext cx="16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6588000" y="5562720"/>
            <a:ext cx="2232000" cy="914400"/>
          </a:xfrm>
          <a:custGeom>
            <a:avLst/>
            <a:gdLst>
              <a:gd name="textAreaLeft" fmla="*/ 59040 w 2232000"/>
              <a:gd name="textAreaRight" fmla="*/ 2172960 w 2232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712" h="21600">
                <a:moveTo>
                  <a:pt x="0" y="0"/>
                </a:moveTo>
                <a:lnTo>
                  <a:pt x="52712" y="0"/>
                </a:lnTo>
                <a:lnTo>
                  <a:pt x="52712" y="21600"/>
                </a:lnTo>
                <a:lnTo>
                  <a:pt x="0" y="21600"/>
                </a:lnTo>
                <a:close/>
              </a:path>
              <a:path fill="lightenLess" w="52712" h="21600">
                <a:moveTo>
                  <a:pt x="0" y="0"/>
                </a:moveTo>
                <a:lnTo>
                  <a:pt x="52712" y="0"/>
                </a:lnTo>
                <a:lnTo>
                  <a:pt x="51312" y="1400"/>
                </a:lnTo>
                <a:lnTo>
                  <a:pt x="1400" y="1400"/>
                </a:lnTo>
                <a:close/>
              </a:path>
              <a:path fill="darken" w="52712" h="21600">
                <a:moveTo>
                  <a:pt x="52712" y="0"/>
                </a:moveTo>
                <a:lnTo>
                  <a:pt x="52712" y="21600"/>
                </a:lnTo>
                <a:lnTo>
                  <a:pt x="51312" y="20200"/>
                </a:lnTo>
                <a:lnTo>
                  <a:pt x="51312" y="1400"/>
                </a:lnTo>
                <a:close/>
              </a:path>
              <a:path fill="darkenLess" w="52712" h="21600">
                <a:moveTo>
                  <a:pt x="52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12" y="20200"/>
                </a:lnTo>
                <a:close/>
              </a:path>
              <a:path fill="lighten" w="52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12" h="21600">
                <a:moveTo>
                  <a:pt x="19350" y="10800"/>
                </a:moveTo>
                <a:lnTo>
                  <a:pt x="33363" y="3794"/>
                </a:lnTo>
                <a:lnTo>
                  <a:pt x="33363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4360" y="1844640"/>
            <a:ext cx="792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кі етістің жұрнағы бірдей, айырмашылығы нед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Олар  қандай  етісте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Picture 7" descr="j0233312"/>
          <p:cNvPicPr/>
          <p:nvPr/>
        </p:nvPicPr>
        <p:blipFill>
          <a:blip r:embed="rId2"/>
          <a:stretch/>
        </p:blipFill>
        <p:spPr>
          <a:xfrm>
            <a:off x="0" y="4554360"/>
            <a:ext cx="2262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1052640"/>
            <a:ext cx="75596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-Бұл не деген үлкен мысық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Салқындады-ау суға түсіп,-деді бала күлімдеді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Әкесі де езу тартты,“Мысық”жүзіп бара жатты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Қандай шығармада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7" descr="j033236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5796000" y="5661000"/>
            <a:ext cx="2928960" cy="914400"/>
          </a:xfrm>
          <a:custGeom>
            <a:avLst/>
            <a:gdLst>
              <a:gd name="textAreaLeft" fmla="*/ 59040 w 2928960"/>
              <a:gd name="textAreaRight" fmla="*/ 2869920 w 292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9169" h="21600">
                <a:moveTo>
                  <a:pt x="0" y="0"/>
                </a:moveTo>
                <a:lnTo>
                  <a:pt x="69169" y="0"/>
                </a:lnTo>
                <a:lnTo>
                  <a:pt x="69169" y="21600"/>
                </a:lnTo>
                <a:lnTo>
                  <a:pt x="0" y="21600"/>
                </a:lnTo>
                <a:close/>
              </a:path>
              <a:path fill="lightenLess" w="69169" h="21600">
                <a:moveTo>
                  <a:pt x="0" y="0"/>
                </a:moveTo>
                <a:lnTo>
                  <a:pt x="69169" y="0"/>
                </a:lnTo>
                <a:lnTo>
                  <a:pt x="67769" y="1400"/>
                </a:lnTo>
                <a:lnTo>
                  <a:pt x="1400" y="1400"/>
                </a:lnTo>
                <a:close/>
              </a:path>
              <a:path fill="darken" w="69169" h="21600">
                <a:moveTo>
                  <a:pt x="69169" y="0"/>
                </a:moveTo>
                <a:lnTo>
                  <a:pt x="69169" y="21600"/>
                </a:lnTo>
                <a:lnTo>
                  <a:pt x="67769" y="20200"/>
                </a:lnTo>
                <a:lnTo>
                  <a:pt x="67769" y="1400"/>
                </a:lnTo>
                <a:close/>
              </a:path>
              <a:path fill="darkenLess" w="69169" h="21600">
                <a:moveTo>
                  <a:pt x="69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69" y="20200"/>
                </a:lnTo>
                <a:close/>
              </a:path>
              <a:path fill="lighten" w="69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69" h="21600">
                <a:moveTo>
                  <a:pt x="27578" y="10800"/>
                </a:moveTo>
                <a:lnTo>
                  <a:pt x="41591" y="3794"/>
                </a:lnTo>
                <a:lnTo>
                  <a:pt x="415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50920" y="1773360"/>
            <a:ext cx="727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Кебенек киген келеді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Кебін киген келмейді” деген мақалдағы “кебін, кебенек”сөздеріне түсінік б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10" descr="j0300840"/>
          <p:cNvPicPr/>
          <p:nvPr/>
        </p:nvPicPr>
        <p:blipFill>
          <a:blip r:embed="rId2"/>
          <a:stretch/>
        </p:blipFill>
        <p:spPr>
          <a:xfrm>
            <a:off x="2916360" y="5084640"/>
            <a:ext cx="23763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24360" y="5733720"/>
            <a:ext cx="1008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5280" y="227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Элегиялық өлең деген не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2" name="Picture 7" descr="j0301252"/>
          <p:cNvPicPr/>
          <p:nvPr/>
        </p:nvPicPr>
        <p:blipFill>
          <a:blip r:embed="rId2"/>
          <a:stretch/>
        </p:blipFill>
        <p:spPr>
          <a:xfrm>
            <a:off x="324000" y="5013360"/>
            <a:ext cx="2406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440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Фонетика нені зерттей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6588000" y="57340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10800"/>
                </a:moveTo>
                <a:lnTo>
                  <a:pt x="34601" y="3794"/>
                </a:lnTo>
                <a:lnTo>
                  <a:pt x="3460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Picture 6" descr="37"/>
          <p:cNvPicPr/>
          <p:nvPr/>
        </p:nvPicPr>
        <p:blipFill>
          <a:blip r:embed="rId2"/>
          <a:stretch/>
        </p:blipFill>
        <p:spPr>
          <a:xfrm flipH="1">
            <a:off x="1066320" y="4464000"/>
            <a:ext cx="3124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68360" y="2133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«Аяз би»ертегісіндегі Жаманның шөп жаманы деп қарақоғаны, құс жаманы деп сауысқанды атау себебі?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AutoShape 4">
            <a:hlinkClick r:id="rId1" action="ppaction://hlinksldjump"/>
          </p:cNvPr>
          <p:cNvSpPr/>
          <p:nvPr/>
        </p:nvSpPr>
        <p:spPr>
          <a:xfrm>
            <a:off x="6012000" y="5661000"/>
            <a:ext cx="2786040" cy="914400"/>
          </a:xfrm>
          <a:custGeom>
            <a:avLst/>
            <a:gdLst>
              <a:gd name="textAreaLeft" fmla="*/ 59040 w 2786040"/>
              <a:gd name="textAreaRight" fmla="*/ 2727000 w 278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5795" h="21600">
                <a:moveTo>
                  <a:pt x="0" y="0"/>
                </a:moveTo>
                <a:lnTo>
                  <a:pt x="65795" y="0"/>
                </a:lnTo>
                <a:lnTo>
                  <a:pt x="65795" y="21600"/>
                </a:lnTo>
                <a:lnTo>
                  <a:pt x="0" y="21600"/>
                </a:lnTo>
                <a:close/>
              </a:path>
              <a:path fill="lightenLess" w="65795" h="21600">
                <a:moveTo>
                  <a:pt x="0" y="0"/>
                </a:moveTo>
                <a:lnTo>
                  <a:pt x="65795" y="0"/>
                </a:lnTo>
                <a:lnTo>
                  <a:pt x="64395" y="1400"/>
                </a:lnTo>
                <a:lnTo>
                  <a:pt x="1400" y="1400"/>
                </a:lnTo>
                <a:close/>
              </a:path>
              <a:path fill="darken" w="65795" h="21600">
                <a:moveTo>
                  <a:pt x="65795" y="0"/>
                </a:moveTo>
                <a:lnTo>
                  <a:pt x="65795" y="21600"/>
                </a:lnTo>
                <a:lnTo>
                  <a:pt x="64395" y="20200"/>
                </a:lnTo>
                <a:lnTo>
                  <a:pt x="64395" y="1400"/>
                </a:lnTo>
                <a:close/>
              </a:path>
              <a:path fill="darkenLess" w="65795" h="21600">
                <a:moveTo>
                  <a:pt x="6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95" y="20200"/>
                </a:lnTo>
                <a:close/>
              </a:path>
              <a:path fill="lighten" w="6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95" h="21600">
                <a:moveTo>
                  <a:pt x="25891" y="10800"/>
                </a:moveTo>
                <a:lnTo>
                  <a:pt x="39904" y="3794"/>
                </a:lnTo>
                <a:lnTo>
                  <a:pt x="399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50920" y="1052640"/>
            <a:ext cx="8353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Әр тарапқа шығар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ға  ақыл с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ның тілін 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Неше батыр болса 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Басында билік жоқ адам...,-</a:t>
            </a:r>
            <a:r>
              <a:rPr b="1" lang="kk-KZ" sz="3200" spc="-1" strike="noStrike">
                <a:solidFill>
                  <a:srgbClr val="4145d9"/>
                </a:solidFill>
                <a:latin typeface="Times New Roman"/>
              </a:rPr>
              <a:t> деп, кім кімнің намысына тиді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7" descr="j0216516"/>
          <p:cNvPicPr/>
          <p:nvPr/>
        </p:nvPicPr>
        <p:blipFill>
          <a:blip r:embed="rId2"/>
          <a:stretch/>
        </p:blipFill>
        <p:spPr>
          <a:xfrm rot="21229800">
            <a:off x="1476000" y="5589720"/>
            <a:ext cx="1800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792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50920" y="981000"/>
            <a:ext cx="8785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тіген сөзді ұмытпастыққа төрт түрлі себеп бар:әуелі –көкірегі байлаулы болмақ;екінші-ғибратлану керек;үшінші-іштей бірнеше қайталап,бекіту керек;төртінші-ой кеселдіден қашық болу керек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Абайдың қай қарасөзіне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93636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Даудың басы кімнің сиыры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Авто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50920" y="177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45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3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50920" y="1844640"/>
            <a:ext cx="806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Абайдың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Құлақтан кіріп бойды алар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Әсем ән  мен тәтті күй...-</a:t>
            </a: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деп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басталатын өлеңі қалай туып е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-сұра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773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Хиросима,Нагасаки трагедиясына арналған шығарманы атап, авторын айты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2400" cy="720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95280" y="19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Мен өзге ұлтты құрметтеуші, өз ұлтын сүюші адаммын.”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Arial"/>
              </a:rPr>
              <a:t>Кімнің сөзі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0" y="2637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Атын айта бастаса-ақ тілі таңдайына жабысып қалатын бала кім еді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7706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1" action="ppaction://hlinksldjump"/>
          </p:cNvPr>
          <p:cNvSpPr/>
          <p:nvPr/>
        </p:nvSpPr>
        <p:spPr>
          <a:xfrm>
            <a:off x="3492360" y="573408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24000" y="1773360"/>
            <a:ext cx="89643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алапатта жеңілмеген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ерлік салтқа төрін берген Отырар қалай жермен жексен болды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(себебін айтыңыз)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Фонетика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(тіл  </a:t>
            </a:r>
            <a:r>
              <a:rPr b="1" lang="kk-KZ" sz="5400" spc="-1" strike="noStrike">
                <a:solidFill>
                  <a:srgbClr val="333333"/>
                </a:solidFill>
                <a:latin typeface="Arial"/>
              </a:rPr>
              <a:t>дыбыстары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3995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057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ингармонизм деген н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1280" y="200196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4145d9"/>
                </a:solidFill>
                <a:latin typeface="Times New Roman"/>
              </a:rPr>
              <a:t>Буын үндесу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44640"/>
            <a:ext cx="856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Б  В  Г  Ғ  Д  Ж  З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П  Ф  К  Қ  Т  Ш С   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 flipV="1">
            <a:off x="4284720" y="2638080"/>
            <a:ext cx="892656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095880" y="54100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20" h="21600">
                <a:moveTo>
                  <a:pt x="21454" y="10800"/>
                </a:moveTo>
                <a:lnTo>
                  <a:pt x="35467" y="3794"/>
                </a:lnTo>
                <a:lnTo>
                  <a:pt x="3546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8000" y="404640"/>
            <a:ext cx="8928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333333"/>
                </a:solidFill>
                <a:latin typeface="Arial"/>
                <a:ea typeface="Arial"/>
              </a:rPr>
              <a:t>o=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″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+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■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2а,ы)+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6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▲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с,л,қ,н,д,у).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rId1" action="ppaction://hlinksldjump"/>
          </p:cNvPr>
          <p:cNvSpPr/>
          <p:nvPr/>
        </p:nvSpPr>
        <p:spPr>
          <a:xfrm>
            <a:off x="6019920" y="5410080"/>
            <a:ext cx="2209680" cy="8384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11" h="21600">
                <a:moveTo>
                  <a:pt x="0" y="0"/>
                </a:moveTo>
                <a:lnTo>
                  <a:pt x="56911" y="0"/>
                </a:lnTo>
                <a:lnTo>
                  <a:pt x="56911" y="21600"/>
                </a:lnTo>
                <a:lnTo>
                  <a:pt x="0" y="21600"/>
                </a:lnTo>
                <a:close/>
              </a:path>
              <a:path fill="lightenLess" w="56911" h="21600">
                <a:moveTo>
                  <a:pt x="0" y="0"/>
                </a:moveTo>
                <a:lnTo>
                  <a:pt x="56911" y="0"/>
                </a:lnTo>
                <a:lnTo>
                  <a:pt x="55511" y="1400"/>
                </a:lnTo>
                <a:lnTo>
                  <a:pt x="1400" y="1400"/>
                </a:lnTo>
                <a:close/>
              </a:path>
              <a:path fill="darken" w="56911" h="21600">
                <a:moveTo>
                  <a:pt x="56911" y="0"/>
                </a:moveTo>
                <a:lnTo>
                  <a:pt x="56911" y="21600"/>
                </a:lnTo>
                <a:lnTo>
                  <a:pt x="55511" y="20200"/>
                </a:lnTo>
                <a:lnTo>
                  <a:pt x="55511" y="1400"/>
                </a:lnTo>
                <a:close/>
              </a:path>
              <a:path fill="darkenLess" w="56911" h="21600">
                <a:moveTo>
                  <a:pt x="56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11" y="20200"/>
                </a:lnTo>
                <a:close/>
              </a:path>
              <a:path fill="lighten" w="56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11" h="21600">
                <a:moveTo>
                  <a:pt x="21449" y="10800"/>
                </a:moveTo>
                <a:lnTo>
                  <a:pt x="35462" y="3794"/>
                </a:lnTo>
                <a:lnTo>
                  <a:pt x="3546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476360" y="162864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ш-са (ашша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1" action="ppaction://hlinksldjump"/>
          </p:cNvPr>
          <p:cNvSpPr/>
          <p:nvPr/>
        </p:nvSpPr>
        <p:spPr>
          <a:xfrm>
            <a:off x="541008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505320" y="3120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кітапхана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080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Picture 9" descr="j0298897"/>
          <p:cNvPicPr/>
          <p:nvPr/>
        </p:nvPicPr>
        <p:blipFill>
          <a:blip r:embed="rId2"/>
          <a:stretch/>
        </p:blipFill>
        <p:spPr>
          <a:xfrm>
            <a:off x="468360" y="2421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84360" y="2421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Arial"/>
              </a:rPr>
              <a:t>Ой,сөз, дыбыс, тіркес екпіндері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AutoShape 11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55640" y="198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Жемістер -жіңішке буынды сөз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8000" y="369252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971640" y="1844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Times New Roman"/>
              </a:rPr>
              <a:t>Буын үндестігіне бағынбайтын жұрнақ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900000" y="2997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ӘЛІПБИ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95280" y="1989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1929 жылға дейін араб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ға дейін латын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дан бері кириллиц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4419720" y="579132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59436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920" y="198108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Жұп дауыссыздарды ата.</a:t>
            </a: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5651640" y="2809800"/>
            <a:ext cx="2997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9" descr="j0090386"/>
          <p:cNvPicPr/>
          <p:nvPr/>
        </p:nvPicPr>
        <p:blipFill>
          <a:blip r:embed="rId2"/>
          <a:stretch/>
        </p:blipFill>
        <p:spPr>
          <a:xfrm>
            <a:off x="1187280" y="4548240"/>
            <a:ext cx="3168720" cy="20494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2217600"/>
            <a:ext cx="10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74123"/>
                </a:solidFill>
                <a:latin typeface="Times New Roman"/>
              </a:rPr>
              <a:t>Себебі, жіңішке нұсқасы жоқ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3280" y="2792520"/>
            <a:ext cx="30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ЕШКІМ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2719440"/>
            <a:ext cx="59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ОРАЛ  тау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5" name="Picture 18" descr="j0304933"/>
          <p:cNvPicPr/>
          <p:nvPr/>
        </p:nvPicPr>
        <p:blipFill>
          <a:blip r:embed="rId2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2073240"/>
            <a:ext cx="845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1-ауыспалы осы шақ;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2-ауыспалы келер шақ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78720" y="2460600"/>
            <a:ext cx="59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Жалғау  көп (4 түрі  бар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2" name="Picture 12" descr="j0335112"/>
          <p:cNvPicPr/>
          <p:nvPr/>
        </p:nvPicPr>
        <p:blipFill>
          <a:blip r:embed="rId1"/>
          <a:stretch/>
        </p:blipFill>
        <p:spPr>
          <a:xfrm>
            <a:off x="1187280" y="4253040"/>
            <a:ext cx="2448000" cy="227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87480" y="21002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Домала+қ,  ақса+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08108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324000" y="1268280"/>
            <a:ext cx="770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Қынап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ізгі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 есім,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әуелдік</a:t>
            </a:r>
            <a:r>
              <a:rPr b="1" lang="kk-KZ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ж.,  ІІІ жағы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нан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шығыс септігі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қылыш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негізгі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зат есім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әуелдік   ж.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ІІІ жағы,</a:t>
            </a: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н-</a:t>
            </a: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абыс септігі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суыр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-негізгі етістік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-ды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–жедел өткен шақ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9" name="Picture 9" descr="j0293844"/>
          <p:cNvPicPr/>
          <p:nvPr/>
        </p:nvPicPr>
        <p:blipFill>
          <a:blip r:embed="rId1"/>
          <a:stretch/>
        </p:blipFill>
        <p:spPr>
          <a:xfrm>
            <a:off x="250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258920" y="21337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3300"/>
                </a:solidFill>
                <a:latin typeface="Times New Roman"/>
              </a:rPr>
              <a:t>-тық,-тік, -дық, -дік: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дос+тық, адам+дық..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00000" y="1989000"/>
            <a:ext cx="7632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– сөз таптарын, сөз құрамын зерттейді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8388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16000" y="1989000"/>
            <a:ext cx="763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-ма, -ме, -ба, -бе, -па, -пе: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1.Көрме, сүзбе, кеспе(зат  есім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2.Көрме, сүзбе, кеспе(етістік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8" name="Picture 7" descr="doc17"/>
          <p:cNvPicPr/>
          <p:nvPr/>
        </p:nvPicPr>
        <p:blipFill>
          <a:blip r:embed="rId1"/>
          <a:stretch/>
        </p:blipFill>
        <p:spPr>
          <a:xfrm>
            <a:off x="250920" y="4933800"/>
            <a:ext cx="2376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3851280" y="5445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6" descr="man86"/>
          <p:cNvPicPr/>
          <p:nvPr/>
        </p:nvPicPr>
        <p:blipFill>
          <a:blip r:embed="rId2"/>
          <a:stretch/>
        </p:blipFill>
        <p:spPr>
          <a:xfrm>
            <a:off x="762120" y="2133720"/>
            <a:ext cx="1942920" cy="3343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048120" y="1981080"/>
            <a:ext cx="579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Салқындау”сөзіне фонетикалық талдау жаса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4000" y="1989000"/>
            <a:ext cx="88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у(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ы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)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ымыз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д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ғ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     ∩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95280" y="2349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-ғалы, -гелі, -қалы, -кел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5" name="Picture 25" descr="j0199283"/>
          <p:cNvPicPr/>
          <p:nvPr/>
        </p:nvPicPr>
        <p:blipFill>
          <a:blip r:embed="rId1"/>
          <a:stretch/>
        </p:blipFill>
        <p:spPr>
          <a:xfrm>
            <a:off x="6227640" y="2997360"/>
            <a:ext cx="2160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9640" y="242100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Өздікте қимыл іс иесіне қатыст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рықсызда иесі белгісіз.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79640" y="2841480"/>
            <a:ext cx="72975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egoe UI"/>
              </a:rPr>
              <a:t>Ә.Тәжібаев "Толағай"               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egoe UI"/>
              <a:ea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948360" y="5589720"/>
            <a:ext cx="1963800" cy="838080"/>
          </a:xfrm>
          <a:custGeom>
            <a:avLst/>
            <a:gdLst>
              <a:gd name="textAreaLeft" fmla="*/ 54000 w 1963800"/>
              <a:gd name="textAreaRight" fmla="*/ 1909800 w 1963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0601" h="21600">
                <a:moveTo>
                  <a:pt x="0" y="0"/>
                </a:moveTo>
                <a:lnTo>
                  <a:pt x="50601" y="0"/>
                </a:lnTo>
                <a:lnTo>
                  <a:pt x="50601" y="21600"/>
                </a:lnTo>
                <a:lnTo>
                  <a:pt x="0" y="21600"/>
                </a:lnTo>
                <a:close/>
              </a:path>
              <a:path fill="lightenLess" w="50601" h="21600">
                <a:moveTo>
                  <a:pt x="0" y="0"/>
                </a:moveTo>
                <a:lnTo>
                  <a:pt x="50601" y="0"/>
                </a:lnTo>
                <a:lnTo>
                  <a:pt x="49201" y="1400"/>
                </a:lnTo>
                <a:lnTo>
                  <a:pt x="1400" y="1400"/>
                </a:lnTo>
                <a:close/>
              </a:path>
              <a:path fill="darken" w="50601" h="21600">
                <a:moveTo>
                  <a:pt x="50601" y="0"/>
                </a:moveTo>
                <a:lnTo>
                  <a:pt x="50601" y="21600"/>
                </a:lnTo>
                <a:lnTo>
                  <a:pt x="49201" y="20200"/>
                </a:lnTo>
                <a:lnTo>
                  <a:pt x="49201" y="1400"/>
                </a:lnTo>
                <a:close/>
              </a:path>
              <a:path fill="darkenLess" w="50601" h="21600">
                <a:moveTo>
                  <a:pt x="50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01" y="20200"/>
                </a:lnTo>
                <a:close/>
              </a:path>
              <a:path fill="lighten" w="50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01" h="21600">
                <a:moveTo>
                  <a:pt x="18294" y="10800"/>
                </a:moveTo>
                <a:lnTo>
                  <a:pt x="32307" y="3794"/>
                </a:lnTo>
                <a:lnTo>
                  <a:pt x="3230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1403280" y="184464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87480" y="1979640"/>
            <a:ext cx="630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енек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– жауыннан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қорғайтын жеңіл  киім,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сулық;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ін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-өлген адамға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кигізілетін соңғы киі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01992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619280" y="1989000"/>
            <a:ext cx="75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35280" y="3164040"/>
            <a:ext cx="69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Элегия -мұңды, қайғылы  өлең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943600" y="548640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835280" y="1916280"/>
            <a:ext cx="70578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Қарақоғ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сиыр  да жемейді, отқа  да жанбайды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Сауысқан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ірігіп ұшпайды, екеу болып қонбайды, ынтымақсыз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 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71240" y="276840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32000" y="2421000"/>
            <a:ext cx="74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«Қобыланды»  жырынд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ae4828"/>
                </a:solidFill>
                <a:latin typeface="Arial"/>
              </a:rPr>
              <a:t>Қараман Қобыландының намысын қайрайды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68360" y="256536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1-қарасөз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5320" y="2492280"/>
            <a:ext cx="63057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.Майлин.  "Дайрабайдың..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064720" cy="86364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6156360" y="5805360"/>
            <a:ext cx="1800360" cy="698760"/>
          </a:xfrm>
          <a:custGeom>
            <a:avLst/>
            <a:gdLst>
              <a:gd name="textAreaLeft" fmla="*/ 45000 w 1800360"/>
              <a:gd name="textAreaRight" fmla="*/ 1755360 w 1800360"/>
              <a:gd name="textAreaTop" fmla="*/ 45000 h 698760"/>
              <a:gd name="textAreaBottom" fmla="*/ 653760 h 698760"/>
            </a:gdLst>
            <a:ahLst/>
            <a:rect l="textAreaLeft" t="textAreaTop" r="textAreaRight" b="textAreaBottom"/>
            <a:pathLst>
              <a:path w="55635" h="21600">
                <a:moveTo>
                  <a:pt x="0" y="0"/>
                </a:moveTo>
                <a:lnTo>
                  <a:pt x="55635" y="0"/>
                </a:lnTo>
                <a:lnTo>
                  <a:pt x="55635" y="21600"/>
                </a:lnTo>
                <a:lnTo>
                  <a:pt x="0" y="21600"/>
                </a:lnTo>
                <a:close/>
              </a:path>
              <a:path fill="lightenLess" w="55635" h="21600">
                <a:moveTo>
                  <a:pt x="0" y="0"/>
                </a:moveTo>
                <a:lnTo>
                  <a:pt x="55635" y="0"/>
                </a:lnTo>
                <a:lnTo>
                  <a:pt x="54235" y="1400"/>
                </a:lnTo>
                <a:lnTo>
                  <a:pt x="1400" y="1400"/>
                </a:lnTo>
                <a:close/>
              </a:path>
              <a:path fill="darken" w="55635" h="21600">
                <a:moveTo>
                  <a:pt x="55635" y="0"/>
                </a:moveTo>
                <a:lnTo>
                  <a:pt x="55635" y="21600"/>
                </a:lnTo>
                <a:lnTo>
                  <a:pt x="54235" y="20200"/>
                </a:lnTo>
                <a:lnTo>
                  <a:pt x="54235" y="1400"/>
                </a:lnTo>
                <a:close/>
              </a:path>
              <a:path fill="darkenLess" w="55635" h="21600">
                <a:moveTo>
                  <a:pt x="55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35" y="20200"/>
                </a:lnTo>
                <a:close/>
              </a:path>
              <a:path fill="lighten" w="55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35" h="21600">
                <a:moveTo>
                  <a:pt x="20811" y="10800"/>
                </a:moveTo>
                <a:lnTo>
                  <a:pt x="34824" y="3794"/>
                </a:lnTo>
                <a:lnTo>
                  <a:pt x="3482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332000" y="1374120"/>
            <a:ext cx="6119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герінді ықпалды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тас ж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ақ ла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ашса.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9032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WordArt 7"/>
          <p:cNvSpPr txBox="1"/>
          <p:nvPr/>
        </p:nvSpPr>
        <p:spPr>
          <a:xfrm rot="20892600">
            <a:off x="2195640" y="2781000"/>
            <a:ext cx="66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іржан  салмен  кездесуінен со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WordArt 7"/>
          <p:cNvSpPr txBox="1"/>
          <p:nvPr/>
        </p:nvSpPr>
        <p:spPr>
          <a:xfrm>
            <a:off x="1763640" y="2565360"/>
            <a:ext cx="6696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Ғ.Мүсірепов "Жапон балладасы"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7164360" y="5589720"/>
            <a:ext cx="1979640" cy="838080"/>
          </a:xfrm>
          <a:custGeom>
            <a:avLst/>
            <a:gdLst>
              <a:gd name="textAreaLeft" fmla="*/ 54000 w 1979640"/>
              <a:gd name="textAreaRight" fmla="*/ 1925640 w 1979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09" h="21600">
                <a:moveTo>
                  <a:pt x="0" y="0"/>
                </a:moveTo>
                <a:lnTo>
                  <a:pt x="51009" y="0"/>
                </a:lnTo>
                <a:lnTo>
                  <a:pt x="51009" y="21600"/>
                </a:lnTo>
                <a:lnTo>
                  <a:pt x="0" y="21600"/>
                </a:lnTo>
                <a:close/>
              </a:path>
              <a:path fill="lightenLess" w="51009" h="21600">
                <a:moveTo>
                  <a:pt x="0" y="0"/>
                </a:moveTo>
                <a:lnTo>
                  <a:pt x="51009" y="0"/>
                </a:lnTo>
                <a:lnTo>
                  <a:pt x="49609" y="1400"/>
                </a:lnTo>
                <a:lnTo>
                  <a:pt x="1400" y="1400"/>
                </a:lnTo>
                <a:close/>
              </a:path>
              <a:path fill="darken" w="51009" h="21600">
                <a:moveTo>
                  <a:pt x="51009" y="0"/>
                </a:moveTo>
                <a:lnTo>
                  <a:pt x="51009" y="21600"/>
                </a:lnTo>
                <a:lnTo>
                  <a:pt x="49609" y="20200"/>
                </a:lnTo>
                <a:lnTo>
                  <a:pt x="49609" y="1400"/>
                </a:lnTo>
                <a:close/>
              </a:path>
              <a:path fill="darkenLess" w="51009" h="21600">
                <a:moveTo>
                  <a:pt x="51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9" y="20200"/>
                </a:lnTo>
                <a:close/>
              </a:path>
              <a:path fill="lighten" w="51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09" h="21600">
                <a:moveTo>
                  <a:pt x="18498" y="10800"/>
                </a:moveTo>
                <a:lnTo>
                  <a:pt x="32511" y="3794"/>
                </a:lnTo>
                <a:lnTo>
                  <a:pt x="3251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5120" y="2492280"/>
            <a:ext cx="5979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уыржан  Момышұ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2880" y="2637000"/>
            <a:ext cx="701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енің атым ҚОЖА" (Қожа)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6588000" y="5805360"/>
            <a:ext cx="2324160" cy="838440"/>
          </a:xfrm>
          <a:custGeom>
            <a:avLst/>
            <a:gdLst>
              <a:gd name="textAreaLeft" fmla="*/ 54360 w 2324160"/>
              <a:gd name="textAreaRight" fmla="*/ 2269800 w 2324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9859" h="21600">
                <a:moveTo>
                  <a:pt x="0" y="0"/>
                </a:moveTo>
                <a:lnTo>
                  <a:pt x="59859" y="0"/>
                </a:lnTo>
                <a:lnTo>
                  <a:pt x="59859" y="21600"/>
                </a:lnTo>
                <a:lnTo>
                  <a:pt x="0" y="21600"/>
                </a:lnTo>
                <a:close/>
              </a:path>
              <a:path fill="lightenLess" w="59859" h="21600">
                <a:moveTo>
                  <a:pt x="0" y="0"/>
                </a:moveTo>
                <a:lnTo>
                  <a:pt x="59859" y="0"/>
                </a:lnTo>
                <a:lnTo>
                  <a:pt x="58459" y="1400"/>
                </a:lnTo>
                <a:lnTo>
                  <a:pt x="1400" y="1400"/>
                </a:lnTo>
                <a:close/>
              </a:path>
              <a:path fill="darken" w="59859" h="21600">
                <a:moveTo>
                  <a:pt x="59859" y="0"/>
                </a:moveTo>
                <a:lnTo>
                  <a:pt x="59859" y="21600"/>
                </a:lnTo>
                <a:lnTo>
                  <a:pt x="58459" y="20200"/>
                </a:lnTo>
                <a:lnTo>
                  <a:pt x="58459" y="1400"/>
                </a:lnTo>
                <a:close/>
              </a:path>
              <a:path fill="darkenLess" w="59859" h="21600">
                <a:moveTo>
                  <a:pt x="59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59" y="20200"/>
                </a:lnTo>
                <a:close/>
              </a:path>
              <a:path fill="lighten" w="59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59" h="21600">
                <a:moveTo>
                  <a:pt x="22923" y="10800"/>
                </a:moveTo>
                <a:lnTo>
                  <a:pt x="36936" y="3794"/>
                </a:lnTo>
                <a:lnTo>
                  <a:pt x="3693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403280" y="2421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тырар  есігін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ҚАРАШОҚЫ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ашып  берген  еді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95440" y="1916280"/>
            <a:ext cx="71802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Қатысқандарыңызға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рақмет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0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200"/>
            </a:br>
            <a:br>
              <a:rPr sz="1600"/>
            </a:b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уын үндестігіне бағынбай тұрған сөзді табыңыз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А) балалық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Ә) жолдас;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Б) кітапха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5148360" y="551664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92720" y="5734080"/>
            <a:ext cx="13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Picture 8" descr="j0149407"/>
          <p:cNvPicPr/>
          <p:nvPr/>
        </p:nvPicPr>
        <p:blipFill>
          <a:blip r:embed="rId2"/>
          <a:stretch/>
        </p:blipFill>
        <p:spPr>
          <a:xfrm>
            <a:off x="250920" y="4365720"/>
            <a:ext cx="17920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64000" y="57150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11280" y="2205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33"/>
                </a:solidFill>
                <a:latin typeface="Arial"/>
              </a:rPr>
              <a:t>Екпін түрлері нешеу?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51:39Z</dcterms:created>
  <dc:creator>Admin1</dc:creator>
  <dc:description/>
  <dc:language>en-US</dc:language>
  <cp:lastModifiedBy>Raigyl</cp:lastModifiedBy>
  <dcterms:modified xsi:type="dcterms:W3CDTF">2011-04-24T09:09:18Z</dcterms:modified>
  <cp:revision>8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10</vt:lpwstr>
  </property>
</Properties>
</file>