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28.png" ContentType="image/png"/>
  <Override PartName="/ppt/media/image8.jpeg" ContentType="image/jpeg"/>
  <Override PartName="/ppt/media/image5.jpeg" ContentType="image/jpeg"/>
  <Override PartName="/ppt/media/image7.gif" ContentType="image/gif"/>
  <Override PartName="/ppt/media/image6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gif" ContentType="image/gif"/>
  <Override PartName="/ppt/media/image22.png" ContentType="image/png"/>
  <Override PartName="/ppt/media/image18.jpeg" ContentType="image/jpeg"/>
  <Override PartName="/ppt/media/image25.png" ContentType="image/png"/>
  <Override PartName="/ppt/media/image32.gif" ContentType="image/gif"/>
  <Override PartName="/ppt/media/image19.jpeg" ContentType="image/jpeg"/>
  <Override PartName="/ppt/media/image20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282-B9C8-4514-9105-E3C9C217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90B-7175-4335-A897-7686B151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235-EE19-499D-B941-577BD571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916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912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84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916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912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017-D15F-44AA-9403-E9F1A21E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1CDD-8CB4-4A6E-A752-2E661185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9505-2052-4F7B-B9DB-2A91ECD0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F37C-9489-4279-980F-0F5CFDC5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E0E0-C5AD-469A-99CC-AC0282F5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3432-219E-41BA-BB27-EEE6E029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840" y="142920"/>
            <a:ext cx="75866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7D16-1523-4CB7-8CDF-B980F423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1654-384B-4322-91F2-BECA43BE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156-FCB3-4E66-AC65-550C84B1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5819-EA2C-4443-9EA5-AB51780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F903-6424-49B8-BD6A-CA5E5B0E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AB3B-446D-496A-A0A9-FD2F650D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C3A-A521-4768-AAF9-16F1207A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8916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912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2884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8916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912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8E29-2913-44EE-9414-07384E51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FD0-E14A-46DD-AFB4-0085D691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E75-4861-4E96-A59E-EDDEA48B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C26-4C33-42E2-9F00-2F62E87F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840" y="142920"/>
            <a:ext cx="75866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7E2-736D-4CB4-A983-EA6063C0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D03-8749-40C1-8B27-0007567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916-6AF0-4ACA-A9B1-D360E40A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7E9-561A-4978-A764-7074676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32F4-C9F0-4027-BEDD-2A11A7188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C1C4-C06F-4843-B64F-23DB2F259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shkolu.ru/club/b-u-m/file2/1788057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6;&#1075;&#1091;&#1088;&#1077;&#1094;%20&#1088;&#1072;&#1089;&#1082;&#1088;&#1072;&#1089;&#1082;&#1072;&amp;p=15&amp;img_url=ravden.3dn.ru%2FRaskraski%2FOvoschi-Frukty-Jagody%2F304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rpt=simage&amp;text=&#1087;&#1086;&#1084;&#1080;&#1076;&#1086;&#1088;%20&#1088;&#1072;&#1089;&#1082;&#1088;&#1072;&#1089;&#1082;&#1072;&amp;p=15&amp;img_url=ravden.3dn.ru%2FRaskraski%2FOvoschi-Frukty-Jagody%2F3065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icolor=orange&amp;text=&#1082;&#1086;&#1090;%20&#1088;&#1072;&#1089;&#1082;&#1088;&#1072;&#1089;&#1082;&#1072;%20&#1074;%20&#1094;&#1074;&#1077;&#1090;&#1077;&amp;p=36&amp;img_url=www.yaplakal.com%2Fuploads%2Fpreviews%2Fpost-13-12173554597629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1332000" y="836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WordArt 11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7327800" cy="1859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500200" y="0"/>
            <a:ext cx="45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00"/>
                </a:solidFill>
                <a:latin typeface="Century Schoolbook"/>
              </a:rPr>
              <a:t>«Средняя общеобразовательная школа №13 г.Караган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332000" y="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самое маленькое значение может принимать сумма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K+A+N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в ребус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232000" y="1484280"/>
            <a:ext cx="66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4f6228"/>
                </a:solidFill>
                <a:latin typeface="Century Schoolbook"/>
              </a:rPr>
              <a:t>K+A+N+G+A+R+O+O=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681200" y="220500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908000" y="432108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4f6228"/>
                </a:solidFill>
                <a:latin typeface="Century Schoolbook"/>
              </a:rPr>
              <a:t>K+A+N+G+A+R+O+O=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446200" y="4019400"/>
            <a:ext cx="504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1905120" y="537372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4"/>
          <p:cNvSpPr/>
          <p:nvPr/>
        </p:nvSpPr>
        <p:spPr>
          <a:xfrm>
            <a:off x="2676600" y="3860640"/>
            <a:ext cx="1463760" cy="289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агетная рамка 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835280" y="18900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граней бруска имеют форму четырехуголь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3652920" y="2431800"/>
            <a:ext cx="388764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3868560" y="2792160"/>
            <a:ext cx="388800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3868560" y="3008160"/>
            <a:ext cx="3888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3581280" y="3295440"/>
            <a:ext cx="388800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 flipH="1" flipV="1">
            <a:off x="7540560" y="243180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V="1">
            <a:off x="7756560" y="27921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7469280" y="3007800"/>
            <a:ext cx="288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 flipH="1" flipV="1">
            <a:off x="3652560" y="3368160"/>
            <a:ext cx="21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V="1">
            <a:off x="3868560" y="3727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 flipV="1">
            <a:off x="3581280" y="3943440"/>
            <a:ext cx="28728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H="1" flipV="1">
            <a:off x="3292560" y="3800160"/>
            <a:ext cx="288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V="1">
            <a:off x="3292560" y="3368520"/>
            <a:ext cx="36036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H="1" flipV="1">
            <a:off x="7182000" y="2863800"/>
            <a:ext cx="28728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7182000" y="2431800"/>
            <a:ext cx="35856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 flipV="1">
            <a:off x="3292560" y="2863800"/>
            <a:ext cx="388944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2411280" y="4869000"/>
            <a:ext cx="41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… гра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084560" y="32241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6964200" y="250344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084560" y="35845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876920" y="3584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029280" y="3008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Багетная рамка 2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187280" y="28440"/>
            <a:ext cx="79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дней нужно было бы ходить в октябре в школу, если бы выходными днями были все числа, в которых есть четные циф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1781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"/>
          <p:cNvSpPr/>
          <p:nvPr/>
        </p:nvSpPr>
        <p:spPr>
          <a:xfrm>
            <a:off x="3638160" y="579420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http://pomochnik.my1.ru/_pu/0/53310352.gif"/>
          <p:cNvPicPr/>
          <p:nvPr/>
        </p:nvPicPr>
        <p:blipFill>
          <a:blip r:embed="rId1"/>
          <a:stretch/>
        </p:blipFill>
        <p:spPr>
          <a:xfrm>
            <a:off x="0" y="1714680"/>
            <a:ext cx="32986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295280" y="-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пытный дрессировщик моет слона за 40 минут, а его сын за 2 часа. За сколько времени они вымоют трех слонов в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i?id=369337812-54-72"/>
          <p:cNvPicPr/>
          <p:nvPr/>
        </p:nvPicPr>
        <p:blipFill>
          <a:blip r:embed="rId1"/>
          <a:stretch/>
        </p:blipFill>
        <p:spPr>
          <a:xfrm>
            <a:off x="1071720" y="2000160"/>
            <a:ext cx="2649240" cy="280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4500720" y="16430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643200" y="2571840"/>
          <a:ext cx="5429520" cy="2786040"/>
        </p:xfrm>
        <a:graphic>
          <a:graphicData uri="http://schemas.openxmlformats.org/drawingml/2006/table">
            <a:tbl>
              <a:tblPr/>
              <a:tblGrid>
                <a:gridCol w="1357560"/>
                <a:gridCol w="1285920"/>
                <a:gridCol w="2786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 с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/40+1/120=4/120=1/30 – значит, за 30 минут они вместе вымоют 1 слона. Для мытья 3 слонов необходимо 1час 30 мину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ресси-ров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ы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Прямоугольник 1"/>
          <p:cNvSpPr/>
          <p:nvPr/>
        </p:nvSpPr>
        <p:spPr>
          <a:xfrm>
            <a:off x="3738240" y="5794200"/>
            <a:ext cx="47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 час 3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1187280" y="44280"/>
            <a:ext cx="77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треугольников изображе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4500720" y="2344680"/>
            <a:ext cx="3816360" cy="15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>
            <a:off x="2411280" y="2344680"/>
            <a:ext cx="2089440" cy="20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H="1" flipV="1">
            <a:off x="2411280" y="4360680"/>
            <a:ext cx="208944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500720" y="2344680"/>
            <a:ext cx="0" cy="237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2411280" y="3281400"/>
            <a:ext cx="432144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3490920" y="3281400"/>
            <a:ext cx="4753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4500360" y="3929040"/>
            <a:ext cx="381636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2016000" y="5445000"/>
            <a:ext cx="439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Багетная рамка 10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438200" y="189000"/>
            <a:ext cx="75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то будет видно вместо знака вопроса, если 4 заменить на 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370320" y="2400480"/>
            <a:ext cx="0" cy="201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2577600" y="2400480"/>
            <a:ext cx="50508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H="1">
            <a:off x="5621040" y="3357720"/>
            <a:ext cx="2089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703920" y="2349360"/>
            <a:ext cx="0" cy="2089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2362320" y="3408480"/>
            <a:ext cx="2087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083040" y="2400480"/>
            <a:ext cx="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2577960" y="311940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 flipH="1">
            <a:off x="3443040" y="311940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3586320" y="2400480"/>
            <a:ext cx="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H="1">
            <a:off x="3586320" y="3624120"/>
            <a:ext cx="57600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586320" y="347976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586320" y="2400480"/>
            <a:ext cx="57780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3443040" y="362412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1"/>
          <p:cNvSpPr/>
          <p:nvPr/>
        </p:nvSpPr>
        <p:spPr>
          <a:xfrm>
            <a:off x="5824440" y="2325600"/>
            <a:ext cx="698760" cy="973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3"/>
          <p:cNvSpPr/>
          <p:nvPr/>
        </p:nvSpPr>
        <p:spPr>
          <a:xfrm>
            <a:off x="6919920" y="3502080"/>
            <a:ext cx="730080" cy="865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7205760" y="4510080"/>
            <a:ext cx="0" cy="7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2700360" y="5506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Багетная рамка 1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1258920" y="0"/>
            <a:ext cx="773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наибольшее число клеток может разрезать прямая, пересекающая этот квадр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594216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5942160" y="603720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644688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695016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745488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795960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>
            <a:off x="5942160" y="394812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 flipH="1">
            <a:off x="5942160" y="452448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5942160" y="553248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H="1">
            <a:off x="5942160" y="502776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786200" y="254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>
            <a:off x="204948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2049120" y="360828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8"/>
          <p:cNvSpPr/>
          <p:nvPr/>
        </p:nvSpPr>
        <p:spPr>
          <a:xfrm>
            <a:off x="255420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9"/>
          <p:cNvSpPr/>
          <p:nvPr/>
        </p:nvSpPr>
        <p:spPr>
          <a:xfrm>
            <a:off x="305928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0"/>
          <p:cNvSpPr/>
          <p:nvPr/>
        </p:nvSpPr>
        <p:spPr>
          <a:xfrm>
            <a:off x="356400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1"/>
          <p:cNvSpPr/>
          <p:nvPr/>
        </p:nvSpPr>
        <p:spPr>
          <a:xfrm>
            <a:off x="406872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2"/>
          <p:cNvSpPr/>
          <p:nvPr/>
        </p:nvSpPr>
        <p:spPr>
          <a:xfrm flipH="1">
            <a:off x="2049120" y="151920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2049120" y="209556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4"/>
          <p:cNvSpPr/>
          <p:nvPr/>
        </p:nvSpPr>
        <p:spPr>
          <a:xfrm flipH="1">
            <a:off x="2049120" y="310356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5"/>
          <p:cNvSpPr/>
          <p:nvPr/>
        </p:nvSpPr>
        <p:spPr>
          <a:xfrm flipH="1">
            <a:off x="2049120" y="259884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1619280" y="56674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агетная рамка 32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51 - Ольга Андреевна Бельская"/>
          <p:cNvPicPr/>
          <p:nvPr/>
        </p:nvPicPr>
        <p:blipFill>
          <a:blip r:embed="rId1"/>
          <a:stretch/>
        </p:blipFill>
        <p:spPr>
          <a:xfrm>
            <a:off x="6858000" y="1214280"/>
            <a:ext cx="169056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522440" y="0"/>
            <a:ext cx="762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зраст человека в 1998 году равен сумме цифр года рождения. Сколько ему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47640" y="180324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512720" y="2511360"/>
            <a:ext cx="4572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ловек родился в …. году и в 1998 году ему исполнилось … лет , т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……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.=18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"/>
          <p:cNvSpPr/>
          <p:nvPr/>
        </p:nvSpPr>
        <p:spPr>
          <a:xfrm>
            <a:off x="3103920" y="5516640"/>
            <a:ext cx="301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.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6143760" y="135720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260360" y="-65160"/>
            <a:ext cx="788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риметр фигуры, составленной из квадратов, равен 6. Чему будет равна ее площа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303640" y="1413000"/>
            <a:ext cx="0" cy="107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3527280" y="1413000"/>
            <a:ext cx="0" cy="107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1079640" y="249228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3527280" y="357336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107964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475128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3527280" y="249084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303280" y="141300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H="1">
            <a:off x="3527280" y="357336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H="1">
            <a:off x="1079640" y="357336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303640" y="357336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H="1">
            <a:off x="2303280" y="465300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303280" y="249228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 flipH="1">
            <a:off x="2303280" y="357336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230364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352728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4859280" y="122724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"/>
          <p:cNvSpPr/>
          <p:nvPr/>
        </p:nvSpPr>
        <p:spPr>
          <a:xfrm>
            <a:off x="1731960" y="566100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агетная рамка 20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258920" y="1260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9 одинаковых книг стоят меньше 10 рублей, а 10 таких же книг стоят больше 11 рублей. Сколько стоит одна кни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i?id=390508314-42-72"/>
          <p:cNvPicPr/>
          <p:nvPr/>
        </p:nvPicPr>
        <p:blipFill>
          <a:blip r:embed="rId1"/>
          <a:stretch/>
        </p:blipFill>
        <p:spPr>
          <a:xfrm>
            <a:off x="1357200" y="135720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i?id=498143546-22-72"/>
          <p:cNvPicPr/>
          <p:nvPr/>
        </p:nvPicPr>
        <p:blipFill>
          <a:blip r:embed="rId2"/>
          <a:stretch/>
        </p:blipFill>
        <p:spPr>
          <a:xfrm>
            <a:off x="6894360" y="5357880"/>
            <a:ext cx="2249640" cy="15001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9"/>
          <p:cNvSpPr/>
          <p:nvPr/>
        </p:nvSpPr>
        <p:spPr>
          <a:xfrm>
            <a:off x="3995640" y="17496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 flipH="1">
            <a:off x="3203640" y="5877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3500280" y="2357280"/>
            <a:ext cx="48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усть 1 книга стоит 1руб. 11коп., тогда 9 книг будут стоить 9руб. 99коп., а 10 книг будут стоить 11руб. 10 коп. Полученные значения удовлетворяют условию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476360" y="404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258920" y="0"/>
            <a:ext cx="7777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аня написала на листке бумаги двузначное число. Когда она повернула листок вверх ногами, число уменьшилось на 12. Какое число написала Та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052720" y="4338720"/>
            <a:ext cx="6840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исло ……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.к. 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403280" y="333864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25 - Библиотечка учителя математи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1785960"/>
            <a:ext cx="2500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258920" y="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елимое в 6 раз больше делителя, а делитель в 6 раз больше частного. Чему равен делит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258920" y="1557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349280" y="2563920"/>
            <a:ext cx="7596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Если делимое в 6 раз больше делителя, а делитель в 6 раз больше частного, то делимое больше частного в 36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2224080" y="5289480"/>
            <a:ext cx="32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2" descr="Без названия - Людмила Павловна Путилина"/>
          <p:cNvPicPr/>
          <p:nvPr/>
        </p:nvPicPr>
        <p:blipFill>
          <a:blip r:embed="rId1"/>
          <a:stretch/>
        </p:blipFill>
        <p:spPr>
          <a:xfrm>
            <a:off x="6929280" y="1428840"/>
            <a:ext cx="16304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357200" y="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му равна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фигуры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AEBCD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, если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CD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= 15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в. см,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BCD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= 12 кв. см,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EC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 кв. 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676600" y="1701720"/>
            <a:ext cx="439236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181320" y="2133360"/>
            <a:ext cx="3887640" cy="1657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 flipV="1">
            <a:off x="7068960" y="2133360"/>
            <a:ext cx="0" cy="1657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 flipV="1">
            <a:off x="3181320" y="3789360"/>
            <a:ext cx="3889440" cy="14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 flipH="1" flipV="1">
            <a:off x="7068600" y="2133360"/>
            <a:ext cx="1800" cy="1655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H="1" flipV="1">
            <a:off x="2676600" y="1701360"/>
            <a:ext cx="50472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05476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771640" y="3933720"/>
            <a:ext cx="5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2820960" y="36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2305080" y="148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7142040" y="19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71420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1763640" y="39765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2484360" y="61657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Багетная рамка 1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1403280" y="115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асположите в порядке возраст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76360" y="1916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5%, 2/3, 1/3, 45%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332000" y="4149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122560" y="494172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1420920" y="11592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Реши ребу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2438280" y="1611360"/>
            <a:ext cx="56167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С Ы Р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3921120" y="2055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 flipH="1">
            <a:off x="3693960" y="22716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4281480" y="2271600"/>
            <a:ext cx="20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С Ы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3557520" y="29192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Р Ы Б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705120" y="29192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506600" y="3308400"/>
            <a:ext cx="34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2122560" y="558972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2411280" y="4365720"/>
            <a:ext cx="208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7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2411280" y="48690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7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2195640" y="4869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2050920" y="50133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1979640" y="5661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14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агетная рамка 21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1258920" y="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с помощью бидонов емкостью 5л и 8л отлить из молочной цистерны 7л мол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3600360" y="138744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i?id=428644431-52-72"/>
          <p:cNvPicPr/>
          <p:nvPr/>
        </p:nvPicPr>
        <p:blipFill>
          <a:blip r:embed="rId1"/>
          <a:stretch/>
        </p:blipFill>
        <p:spPr>
          <a:xfrm>
            <a:off x="1403280" y="1628640"/>
            <a:ext cx="1290600" cy="1729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f_19130343"/>
          <p:cNvPicPr/>
          <p:nvPr/>
        </p:nvPicPr>
        <p:blipFill>
          <a:blip r:embed="rId2"/>
          <a:stretch/>
        </p:blipFill>
        <p:spPr>
          <a:xfrm>
            <a:off x="7070760" y="1214280"/>
            <a:ext cx="2073240" cy="2592720"/>
          </a:xfrm>
          <a:prstGeom prst="rect">
            <a:avLst/>
          </a:prstGeom>
          <a:ln w="0">
            <a:noFill/>
          </a:ln>
        </p:spPr>
      </p:pic>
      <p:sp>
        <p:nvSpPr>
          <p:cNvPr id="343" name="Line 21"/>
          <p:cNvSpPr/>
          <p:nvPr/>
        </p:nvSpPr>
        <p:spPr>
          <a:xfrm>
            <a:off x="4105440" y="2916360"/>
            <a:ext cx="0" cy="32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5286240" y="292896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6500880" y="292896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4"/>
          <p:cNvSpPr/>
          <p:nvPr/>
        </p:nvSpPr>
        <p:spPr>
          <a:xfrm>
            <a:off x="4105440" y="3276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5"/>
          <p:cNvSpPr/>
          <p:nvPr/>
        </p:nvSpPr>
        <p:spPr>
          <a:xfrm>
            <a:off x="4105440" y="3637080"/>
            <a:ext cx="239544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6"/>
          <p:cNvSpPr/>
          <p:nvPr/>
        </p:nvSpPr>
        <p:spPr>
          <a:xfrm>
            <a:off x="4105440" y="3997440"/>
            <a:ext cx="23954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7"/>
          <p:cNvSpPr/>
          <p:nvPr/>
        </p:nvSpPr>
        <p:spPr>
          <a:xfrm>
            <a:off x="4071960" y="4357800"/>
            <a:ext cx="24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8"/>
          <p:cNvSpPr/>
          <p:nvPr/>
        </p:nvSpPr>
        <p:spPr>
          <a:xfrm flipV="1">
            <a:off x="4105440" y="4714920"/>
            <a:ext cx="239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9"/>
          <p:cNvSpPr/>
          <p:nvPr/>
        </p:nvSpPr>
        <p:spPr>
          <a:xfrm flipV="1">
            <a:off x="4105440" y="5071680"/>
            <a:ext cx="239544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0"/>
          <p:cNvSpPr/>
          <p:nvPr/>
        </p:nvSpPr>
        <p:spPr>
          <a:xfrm flipV="1">
            <a:off x="4105440" y="5429160"/>
            <a:ext cx="2395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4143240" y="5786280"/>
            <a:ext cx="23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2"/>
          <p:cNvSpPr/>
          <p:nvPr/>
        </p:nvSpPr>
        <p:spPr>
          <a:xfrm flipV="1">
            <a:off x="4105440" y="6143400"/>
            <a:ext cx="23954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4"/>
          <p:cNvSpPr/>
          <p:nvPr/>
        </p:nvSpPr>
        <p:spPr>
          <a:xfrm>
            <a:off x="4105440" y="2916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71960" y="2916360"/>
            <a:ext cx="1214280" cy="39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5286240" y="2928960"/>
            <a:ext cx="1214640" cy="357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агетная рамка 3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0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1511280" y="142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число стоит на 50 месте в представленном ря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187280" y="1544760"/>
            <a:ext cx="79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6228"/>
                </a:solidFill>
                <a:latin typeface="Century Schoolbook"/>
              </a:rPr>
              <a:t>1,2,2,3,3,3,4,4,4,4,5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2843280" y="2565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332000" y="3429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1,2,2,3,3,3,4,4,4,4,5,5,5,5,5,6,6,6,6,6,6,7,7,7,7,7,7,7,8,8,8,8,8,8,8,8,9,9,9,9,9,9,9,9,9,10,10,10,10,10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133720" y="595008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1258920" y="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различных результатов можно получить, складывая по два числа из наб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584360" y="148428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1, 2, 3, 4, 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28840" y="22766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1877760" y="595008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Ответ: …..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386000" y="128520"/>
            <a:ext cx="75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риметр бассейна на рисунке равен 60 м. Какова его площа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2916360" y="1611360"/>
            <a:ext cx="31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6084720" y="161136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2916360" y="1611360"/>
            <a:ext cx="0" cy="1368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2916360" y="2979720"/>
            <a:ext cx="1584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4500720" y="2979720"/>
            <a:ext cx="0" cy="7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4500720" y="3772080"/>
            <a:ext cx="31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6084720" y="2403360"/>
            <a:ext cx="1582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7667640" y="2403360"/>
            <a:ext cx="0" cy="136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"/>
          <p:cNvSpPr/>
          <p:nvPr/>
        </p:nvSpPr>
        <p:spPr>
          <a:xfrm flipV="1">
            <a:off x="4500720" y="269064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579600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5508720" y="2403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521964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464328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493236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2"/>
          <p:cNvSpPr/>
          <p:nvPr/>
        </p:nvSpPr>
        <p:spPr>
          <a:xfrm flipV="1">
            <a:off x="4500720" y="240336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3"/>
          <p:cNvSpPr/>
          <p:nvPr/>
        </p:nvSpPr>
        <p:spPr>
          <a:xfrm flipV="1">
            <a:off x="4427640" y="1467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4"/>
          <p:cNvSpPr/>
          <p:nvPr/>
        </p:nvSpPr>
        <p:spPr>
          <a:xfrm flipV="1">
            <a:off x="3635280" y="283536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5"/>
          <p:cNvSpPr/>
          <p:nvPr/>
        </p:nvSpPr>
        <p:spPr>
          <a:xfrm flipV="1">
            <a:off x="3708360" y="283536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 flipV="1">
            <a:off x="550872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 flipV="1">
            <a:off x="558000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4356000" y="355428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 flipV="1">
            <a:off x="694836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0"/>
          <p:cNvSpPr/>
          <p:nvPr/>
        </p:nvSpPr>
        <p:spPr>
          <a:xfrm flipV="1">
            <a:off x="702000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>
            <a:off x="4356000" y="3483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2"/>
          <p:cNvSpPr/>
          <p:nvPr/>
        </p:nvSpPr>
        <p:spPr>
          <a:xfrm>
            <a:off x="4356000" y="341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5940360" y="197172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4"/>
          <p:cNvSpPr/>
          <p:nvPr/>
        </p:nvSpPr>
        <p:spPr>
          <a:xfrm>
            <a:off x="5940360" y="2043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5"/>
          <p:cNvSpPr/>
          <p:nvPr/>
        </p:nvSpPr>
        <p:spPr>
          <a:xfrm>
            <a:off x="5940360" y="2114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012000" y="38196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2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1682640" y="331164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8"/>
          <p:cNvSpPr/>
          <p:nvPr/>
        </p:nvSpPr>
        <p:spPr>
          <a:xfrm>
            <a:off x="4356000" y="2690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9"/>
          <p:cNvSpPr/>
          <p:nvPr/>
        </p:nvSpPr>
        <p:spPr>
          <a:xfrm>
            <a:off x="4356000" y="2619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0"/>
          <p:cNvSpPr/>
          <p:nvPr/>
        </p:nvSpPr>
        <p:spPr>
          <a:xfrm>
            <a:off x="4356000" y="254808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1486080" y="4297320"/>
            <a:ext cx="75247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0-12∙3=24(м) – сумма трёх сторон(три ширин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4:3=8(м) – ши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2х8=96(м2) – площадь первого прямоуголь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2х8=96(м2) – площадь второго прямоуг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х6=24(м2) – площадь общей части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96+96-24=168(м2) – площадь басс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36"/>
          <p:cNvSpPr/>
          <p:nvPr/>
        </p:nvSpPr>
        <p:spPr>
          <a:xfrm>
            <a:off x="5717520" y="5877000"/>
            <a:ext cx="30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168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Багетная рамка 3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10"/>
                            </p:stCondLst>
                            <p:childTnLst>
                              <p:par>
                                <p:cTn id="144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020"/>
                            </p:stCondLst>
                            <p:childTnLst>
                              <p:par>
                                <p:cTn id="14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030"/>
                            </p:stCondLst>
                            <p:childTnLst>
                              <p:par>
                                <p:cTn id="14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40"/>
                            </p:stCondLst>
                            <p:childTnLst>
                              <p:par>
                                <p:cTn id="14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50"/>
                            </p:stCondLst>
                            <p:childTnLst>
                              <p:par>
                                <p:cTn id="14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60"/>
                            </p:stCondLst>
                            <p:childTnLst>
                              <p:par>
                                <p:cTn id="14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70"/>
                            </p:stCondLst>
                            <p:childTnLst>
                              <p:par>
                                <p:cTn id="14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80"/>
                            </p:stCondLst>
                            <p:childTnLst>
                              <p:par>
                                <p:cTn id="148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90"/>
                            </p:stCondLst>
                            <p:childTnLst>
                              <p:par>
                                <p:cTn id="149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100"/>
                            </p:stCondLst>
                            <p:childTnLst>
                              <p:par>
                                <p:cTn id="149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110"/>
                            </p:stCondLst>
                            <p:childTnLst>
                              <p:par>
                                <p:cTn id="15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120"/>
                            </p:stCondLst>
                            <p:childTnLst>
                              <p:par>
                                <p:cTn id="15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130"/>
                            </p:stCondLst>
                            <p:childTnLst>
                              <p:par>
                                <p:cTn id="15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140"/>
                            </p:stCondLst>
                            <p:childTnLst>
                              <p:par>
                                <p:cTn id="152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1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150"/>
                            </p:stCondLst>
                            <p:childTnLst>
                              <p:par>
                                <p:cTn id="15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160"/>
                            </p:stCondLst>
                            <p:childTnLst>
                              <p:par>
                                <p:cTn id="15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170"/>
                            </p:stCondLst>
                            <p:childTnLst>
                              <p:par>
                                <p:cTn id="154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180"/>
                            </p:stCondLst>
                            <p:childTnLst>
                              <p:par>
                                <p:cTn id="154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190"/>
                            </p:stCondLst>
                            <p:childTnLst>
                              <p:par>
                                <p:cTn id="15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200"/>
                            </p:stCondLst>
                            <p:childTnLst>
                              <p:par>
                                <p:cTn id="155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210"/>
                            </p:stCondLst>
                            <p:childTnLst>
                              <p:par>
                                <p:cTn id="156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220"/>
                            </p:stCondLst>
                            <p:childTnLst>
                              <p:par>
                                <p:cTn id="157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1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230"/>
                            </p:stCondLst>
                            <p:childTnLst>
                              <p:par>
                                <p:cTn id="15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240"/>
                            </p:stCondLst>
                            <p:childTnLst>
                              <p:par>
                                <p:cTn id="15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250"/>
                            </p:stCondLst>
                            <p:childTnLst>
                              <p:par>
                                <p:cTn id="158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260"/>
                            </p:stCondLst>
                            <p:childTnLst>
                              <p:par>
                                <p:cTn id="159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1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270"/>
                            </p:stCondLst>
                            <p:childTnLst>
                              <p:par>
                                <p:cTn id="160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1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1280"/>
                            </p:stCondLst>
                            <p:childTnLst>
                              <p:par>
                                <p:cTn id="1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2280"/>
                            </p:stCondLst>
                            <p:childTnLst>
                              <p:par>
                                <p:cTn id="1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2290"/>
                            </p:stCondLst>
                            <p:childTnLst>
                              <p:par>
                                <p:cTn id="16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1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6"/>
          <p:cNvSpPr/>
          <p:nvPr/>
        </p:nvSpPr>
        <p:spPr>
          <a:xfrm>
            <a:off x="1298520" y="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йдите все числа из примера, если каждое из них читается и слева направо и справа налево одинак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AutoShape 7"/>
          <p:cNvGrpSpPr/>
          <p:nvPr/>
        </p:nvGrpSpPr>
        <p:grpSpPr>
          <a:xfrm>
            <a:off x="1341360" y="2004840"/>
            <a:ext cx="768600" cy="830520"/>
            <a:chOff x="1341360" y="2004840"/>
            <a:chExt cx="768600" cy="830520"/>
          </a:xfrm>
        </p:grpSpPr>
        <p:pic>
          <p:nvPicPr>
            <p:cNvPr id="409" name="AutoShape 7" descr=""/>
            <p:cNvPicPr/>
            <p:nvPr/>
          </p:nvPicPr>
          <p:blipFill>
            <a:blip r:embed="rId1"/>
            <a:stretch/>
          </p:blipFill>
          <p:spPr>
            <a:xfrm>
              <a:off x="134136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4"/>
            <p:cNvSpPr/>
            <p:nvPr/>
          </p:nvSpPr>
          <p:spPr>
            <a:xfrm>
              <a:off x="1555920" y="2211480"/>
              <a:ext cx="34416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AutoShape 8"/>
          <p:cNvGrpSpPr/>
          <p:nvPr/>
        </p:nvGrpSpPr>
        <p:grpSpPr>
          <a:xfrm>
            <a:off x="1994040" y="2004840"/>
            <a:ext cx="761760" cy="830520"/>
            <a:chOff x="1994040" y="2004840"/>
            <a:chExt cx="761760" cy="830520"/>
          </a:xfrm>
        </p:grpSpPr>
        <p:pic>
          <p:nvPicPr>
            <p:cNvPr id="412" name="AutoShape 8" descr=""/>
            <p:cNvPicPr/>
            <p:nvPr/>
          </p:nvPicPr>
          <p:blipFill>
            <a:blip r:embed="rId2"/>
            <a:stretch/>
          </p:blipFill>
          <p:spPr>
            <a:xfrm>
              <a:off x="199404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7"/>
            <p:cNvSpPr/>
            <p:nvPr/>
          </p:nvSpPr>
          <p:spPr>
            <a:xfrm>
              <a:off x="2205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AutoShape 10"/>
          <p:cNvGrpSpPr/>
          <p:nvPr/>
        </p:nvGrpSpPr>
        <p:grpSpPr>
          <a:xfrm>
            <a:off x="3359160" y="2004840"/>
            <a:ext cx="762120" cy="830520"/>
            <a:chOff x="3359160" y="2004840"/>
            <a:chExt cx="762120" cy="830520"/>
          </a:xfrm>
        </p:grpSpPr>
        <p:pic>
          <p:nvPicPr>
            <p:cNvPr id="415" name="AutoShape 10" descr=""/>
            <p:cNvPicPr/>
            <p:nvPr/>
          </p:nvPicPr>
          <p:blipFill>
            <a:blip r:embed="rId3"/>
            <a:stretch/>
          </p:blipFill>
          <p:spPr>
            <a:xfrm>
              <a:off x="3359160" y="2004840"/>
              <a:ext cx="762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10"/>
            <p:cNvSpPr/>
            <p:nvPr/>
          </p:nvSpPr>
          <p:spPr>
            <a:xfrm>
              <a:off x="357192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11"/>
          <p:cNvGrpSpPr/>
          <p:nvPr/>
        </p:nvGrpSpPr>
        <p:grpSpPr>
          <a:xfrm>
            <a:off x="4005360" y="2004840"/>
            <a:ext cx="768240" cy="830520"/>
            <a:chOff x="4005360" y="2004840"/>
            <a:chExt cx="768240" cy="830520"/>
          </a:xfrm>
        </p:grpSpPr>
        <p:pic>
          <p:nvPicPr>
            <p:cNvPr id="418" name="AutoShape 11" descr=""/>
            <p:cNvPicPr/>
            <p:nvPr/>
          </p:nvPicPr>
          <p:blipFill>
            <a:blip r:embed="rId4"/>
            <a:stretch/>
          </p:blipFill>
          <p:spPr>
            <a:xfrm>
              <a:off x="4005360" y="2004840"/>
              <a:ext cx="7682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13"/>
            <p:cNvSpPr/>
            <p:nvPr/>
          </p:nvSpPr>
          <p:spPr>
            <a:xfrm>
              <a:off x="4221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12"/>
          <p:cNvGrpSpPr/>
          <p:nvPr/>
        </p:nvGrpSpPr>
        <p:grpSpPr>
          <a:xfrm>
            <a:off x="4657680" y="2004840"/>
            <a:ext cx="762120" cy="830520"/>
            <a:chOff x="4657680" y="2004840"/>
            <a:chExt cx="762120" cy="830520"/>
          </a:xfrm>
        </p:grpSpPr>
        <p:pic>
          <p:nvPicPr>
            <p:cNvPr id="421" name="AutoShape 12" descr=""/>
            <p:cNvPicPr/>
            <p:nvPr/>
          </p:nvPicPr>
          <p:blipFill>
            <a:blip r:embed="rId5"/>
            <a:stretch/>
          </p:blipFill>
          <p:spPr>
            <a:xfrm>
              <a:off x="4657680" y="2004840"/>
              <a:ext cx="762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16"/>
            <p:cNvSpPr/>
            <p:nvPr/>
          </p:nvSpPr>
          <p:spPr>
            <a:xfrm>
              <a:off x="4869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AutoShape 13"/>
          <p:cNvGrpSpPr/>
          <p:nvPr/>
        </p:nvGrpSpPr>
        <p:grpSpPr>
          <a:xfrm>
            <a:off x="8004240" y="2004840"/>
            <a:ext cx="761760" cy="830520"/>
            <a:chOff x="8004240" y="2004840"/>
            <a:chExt cx="761760" cy="830520"/>
          </a:xfrm>
        </p:grpSpPr>
        <p:pic>
          <p:nvPicPr>
            <p:cNvPr id="424" name="AutoShape 13" descr=""/>
            <p:cNvPicPr/>
            <p:nvPr/>
          </p:nvPicPr>
          <p:blipFill>
            <a:blip r:embed="rId6"/>
            <a:stretch/>
          </p:blipFill>
          <p:spPr>
            <a:xfrm>
              <a:off x="800424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19"/>
            <p:cNvSpPr/>
            <p:nvPr/>
          </p:nvSpPr>
          <p:spPr>
            <a:xfrm>
              <a:off x="82152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AutoShape 14"/>
          <p:cNvGrpSpPr/>
          <p:nvPr/>
        </p:nvGrpSpPr>
        <p:grpSpPr>
          <a:xfrm>
            <a:off x="7321680" y="2004840"/>
            <a:ext cx="761760" cy="830520"/>
            <a:chOff x="7321680" y="2004840"/>
            <a:chExt cx="761760" cy="830520"/>
          </a:xfrm>
        </p:grpSpPr>
        <p:pic>
          <p:nvPicPr>
            <p:cNvPr id="427" name="AutoShape 14" descr=""/>
            <p:cNvPicPr/>
            <p:nvPr/>
          </p:nvPicPr>
          <p:blipFill>
            <a:blip r:embed="rId7"/>
            <a:stretch/>
          </p:blipFill>
          <p:spPr>
            <a:xfrm>
              <a:off x="732168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22"/>
            <p:cNvSpPr/>
            <p:nvPr/>
          </p:nvSpPr>
          <p:spPr>
            <a:xfrm>
              <a:off x="753264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AutoShape 15"/>
          <p:cNvGrpSpPr/>
          <p:nvPr/>
        </p:nvGrpSpPr>
        <p:grpSpPr>
          <a:xfrm>
            <a:off x="6669000" y="2004840"/>
            <a:ext cx="768600" cy="830520"/>
            <a:chOff x="6669000" y="2004840"/>
            <a:chExt cx="768600" cy="830520"/>
          </a:xfrm>
        </p:grpSpPr>
        <p:pic>
          <p:nvPicPr>
            <p:cNvPr id="430" name="AutoShape 15" descr=""/>
            <p:cNvPicPr/>
            <p:nvPr/>
          </p:nvPicPr>
          <p:blipFill>
            <a:blip r:embed="rId8"/>
            <a:stretch/>
          </p:blipFill>
          <p:spPr>
            <a:xfrm>
              <a:off x="666900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25"/>
            <p:cNvSpPr/>
            <p:nvPr/>
          </p:nvSpPr>
          <p:spPr>
            <a:xfrm>
              <a:off x="6885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AutoShape 16"/>
          <p:cNvGrpSpPr/>
          <p:nvPr/>
        </p:nvGrpSpPr>
        <p:grpSpPr>
          <a:xfrm>
            <a:off x="6022800" y="2004840"/>
            <a:ext cx="768600" cy="830520"/>
            <a:chOff x="6022800" y="2004840"/>
            <a:chExt cx="768600" cy="830520"/>
          </a:xfrm>
        </p:grpSpPr>
        <p:pic>
          <p:nvPicPr>
            <p:cNvPr id="433" name="AutoShape 16" descr=""/>
            <p:cNvPicPr/>
            <p:nvPr/>
          </p:nvPicPr>
          <p:blipFill>
            <a:blip r:embed="rId9"/>
            <a:stretch/>
          </p:blipFill>
          <p:spPr>
            <a:xfrm>
              <a:off x="602280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28"/>
            <p:cNvSpPr/>
            <p:nvPr/>
          </p:nvSpPr>
          <p:spPr>
            <a:xfrm>
              <a:off x="623736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Text Box 17"/>
          <p:cNvGrpSpPr/>
          <p:nvPr/>
        </p:nvGrpSpPr>
        <p:grpSpPr>
          <a:xfrm>
            <a:off x="2359080" y="1566720"/>
            <a:ext cx="1401840" cy="1298880"/>
            <a:chOff x="2359080" y="1566720"/>
            <a:chExt cx="1401840" cy="1298880"/>
          </a:xfrm>
        </p:grpSpPr>
        <p:pic>
          <p:nvPicPr>
            <p:cNvPr id="436" name="Text Box 17" descr=""/>
            <p:cNvPicPr/>
            <p:nvPr/>
          </p:nvPicPr>
          <p:blipFill>
            <a:blip r:embed="rId10"/>
            <a:stretch/>
          </p:blipFill>
          <p:spPr>
            <a:xfrm>
              <a:off x="2359080" y="1566720"/>
              <a:ext cx="140184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31"/>
            <p:cNvSpPr/>
            <p:nvPr/>
          </p:nvSpPr>
          <p:spPr>
            <a:xfrm>
              <a:off x="2784600" y="1784520"/>
              <a:ext cx="50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8"/>
          <p:cNvSpPr/>
          <p:nvPr/>
        </p:nvSpPr>
        <p:spPr>
          <a:xfrm>
            <a:off x="5457960" y="177336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9"/>
          <p:cNvSpPr/>
          <p:nvPr/>
        </p:nvSpPr>
        <p:spPr>
          <a:xfrm>
            <a:off x="154944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0"/>
          <p:cNvSpPr/>
          <p:nvPr/>
        </p:nvSpPr>
        <p:spPr>
          <a:xfrm>
            <a:off x="2198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1"/>
          <p:cNvSpPr/>
          <p:nvPr/>
        </p:nvSpPr>
        <p:spPr>
          <a:xfrm>
            <a:off x="356544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2"/>
          <p:cNvSpPr/>
          <p:nvPr/>
        </p:nvSpPr>
        <p:spPr>
          <a:xfrm>
            <a:off x="421488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3"/>
          <p:cNvSpPr/>
          <p:nvPr/>
        </p:nvSpPr>
        <p:spPr>
          <a:xfrm>
            <a:off x="4862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4"/>
          <p:cNvSpPr/>
          <p:nvPr/>
        </p:nvSpPr>
        <p:spPr>
          <a:xfrm>
            <a:off x="820908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5"/>
          <p:cNvSpPr/>
          <p:nvPr/>
        </p:nvSpPr>
        <p:spPr>
          <a:xfrm>
            <a:off x="752616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6"/>
          <p:cNvSpPr/>
          <p:nvPr/>
        </p:nvSpPr>
        <p:spPr>
          <a:xfrm>
            <a:off x="6878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7"/>
          <p:cNvSpPr/>
          <p:nvPr/>
        </p:nvSpPr>
        <p:spPr>
          <a:xfrm>
            <a:off x="623088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2917800" y="43671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9"/>
          <p:cNvSpPr/>
          <p:nvPr/>
        </p:nvSpPr>
        <p:spPr>
          <a:xfrm>
            <a:off x="5581800" y="443880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4"/>
          <p:cNvSpPr/>
          <p:nvPr/>
        </p:nvSpPr>
        <p:spPr>
          <a:xfrm>
            <a:off x="4357800" y="4654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5"/>
          <p:cNvSpPr/>
          <p:nvPr/>
        </p:nvSpPr>
        <p:spPr>
          <a:xfrm>
            <a:off x="2917800" y="2948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Багетная рамка 2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1403280" y="0"/>
            <a:ext cx="802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606 жителей города съедают 606 сосисок. 600 – с соусом, 6 без соуса. Сколько понадобится сосисок без соуса для 606 606 жителей го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7" descr="i?id=319252926-25-72"/>
          <p:cNvPicPr/>
          <p:nvPr/>
        </p:nvPicPr>
        <p:blipFill>
          <a:blip r:embed="rId1"/>
          <a:stretch/>
        </p:blipFill>
        <p:spPr>
          <a:xfrm>
            <a:off x="6372360" y="2060640"/>
            <a:ext cx="2593800" cy="176364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8"/>
          <p:cNvSpPr/>
          <p:nvPr/>
        </p:nvSpPr>
        <p:spPr>
          <a:xfrm>
            <a:off x="1835280" y="508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6006 сосис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434960" y="1700280"/>
            <a:ext cx="359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547640" y="271620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606 - 600) х (606606:606) = 6006(с.) – понадобится для 606 606 жителей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547640" y="260280"/>
            <a:ext cx="7272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332000" y="-42840"/>
            <a:ext cx="770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 помидоров и 2 огурца весят столько же, сколько 9 помидоров и 1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то тяжелее: 8 помидоров или 2 огур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i?id=135913223-46-72">
            <a:hlinkClick r:id="rId1"/>
          </p:cNvPr>
          <p:cNvPicPr/>
          <p:nvPr/>
        </p:nvPicPr>
        <p:blipFill>
          <a:blip r:embed="rId2"/>
          <a:stretch/>
        </p:blipFill>
        <p:spPr>
          <a:xfrm rot="20615400">
            <a:off x="6484680" y="1332000"/>
            <a:ext cx="2533680" cy="124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i?id=260653021-60-72">
            <a:hlinkClick r:id="rId3"/>
          </p:cNvPr>
          <p:cNvPicPr/>
          <p:nvPr/>
        </p:nvPicPr>
        <p:blipFill>
          <a:blip r:embed="rId4"/>
          <a:stretch/>
        </p:blipFill>
        <p:spPr>
          <a:xfrm rot="475200">
            <a:off x="6761160" y="2936520"/>
            <a:ext cx="2290680" cy="148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2143080" y="135720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428840" y="2000160"/>
            <a:ext cx="574020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.+2о.=9п.+1о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сли убрать 5 томатов из каждой части, то получится, что 2 огурца весят столько же, сколько 4 помидора и 1 огурец .Если убрать по 1 огурцу, то получится, что 1 огурец весит столько же, сколько 4 томата. Значит 8 томатов весят столько же, сколько  2 огу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5582520" y="607212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Ответ: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агетная рамка 8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133200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Раздели полтину на полов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2050920" y="1989000"/>
            <a:ext cx="64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"/>
          <p:cNvSpPr/>
          <p:nvPr/>
        </p:nvSpPr>
        <p:spPr>
          <a:xfrm>
            <a:off x="3206520" y="515772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"/>
          <p:cNvSpPr/>
          <p:nvPr/>
        </p:nvSpPr>
        <p:spPr>
          <a:xfrm>
            <a:off x="1643760" y="1844640"/>
            <a:ext cx="27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1476360" y="46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Когда произведение чисел равно их частно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476360" y="2781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когда делитель и один из множителей равны ……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Багетная рамка 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0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1258920" y="126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олько получится, если 2 десятка умножить на 5 десят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03280" y="1557360"/>
            <a:ext cx="72406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ес.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ес.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20 х 50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"/>
          <p:cNvSpPr/>
          <p:nvPr/>
        </p:nvSpPr>
        <p:spPr>
          <a:xfrm>
            <a:off x="1662840" y="49417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……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десят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0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8053200" cy="3786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Улыбочка"/>
          <p:cNvPicPr/>
          <p:nvPr/>
        </p:nvPicPr>
        <p:blipFill>
          <a:blip r:embed="rId2"/>
          <a:stretch/>
        </p:blipFill>
        <p:spPr>
          <a:xfrm>
            <a:off x="6000840" y="4143240"/>
            <a:ext cx="2857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0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619280" y="33336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85920" y="-142920"/>
            <a:ext cx="7858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азрежьте прямоугольник 16х9 на 2 части, из которых можно сложить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635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851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067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28292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50072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4716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932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5148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5580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5364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5796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6012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622764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644364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 flipH="1">
            <a:off x="6659640" y="2330280"/>
            <a:ext cx="144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 flipH="1">
            <a:off x="6875640" y="2330280"/>
            <a:ext cx="144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 flipH="1">
            <a:off x="7090920" y="2330280"/>
            <a:ext cx="180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3635280" y="2330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3635280" y="2546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H="1">
            <a:off x="3635280" y="2762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3635280" y="2978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H="1">
            <a:off x="3635280" y="3193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H="1">
            <a:off x="3635280" y="3409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 flipH="1">
            <a:off x="3635280" y="3625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 flipH="1">
            <a:off x="3635280" y="3841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 flipH="1">
            <a:off x="3635280" y="405756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H="1">
            <a:off x="3635280" y="427356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4280" y="1285920"/>
            <a:ext cx="27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2073240" y="4508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агетная рамка 32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352520" y="0"/>
            <a:ext cx="763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те разрешают играть по понедельникам, пятницам и нечетным числам. Какое наибольшее число дней подряд он сможет игр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857240" y="550080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агетная рамка 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8" descr="mal"/>
          <p:cNvPicPr/>
          <p:nvPr/>
        </p:nvPicPr>
        <p:blipFill>
          <a:blip r:embed="rId1"/>
          <a:stretch/>
        </p:blipFill>
        <p:spPr>
          <a:xfrm>
            <a:off x="5416560" y="1928880"/>
            <a:ext cx="3038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1403280" y="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треугольников на рисунке имеют такую же площадь как и целая клет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572000" y="2133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274920" y="2552760"/>
            <a:ext cx="5184720" cy="25909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274920" y="2552760"/>
            <a:ext cx="338472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6588000" y="3848040"/>
            <a:ext cx="1873440" cy="129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 flipH="1" flipV="1">
            <a:off x="6514920" y="2552760"/>
            <a:ext cx="1944360" cy="1295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V="1">
            <a:off x="3274920" y="2552400"/>
            <a:ext cx="324036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3274920" y="3776760"/>
            <a:ext cx="5184720" cy="7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 flipH="1" flipV="1">
            <a:off x="6515280" y="2552400"/>
            <a:ext cx="7128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4930920" y="2552400"/>
            <a:ext cx="7128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3274920" y="5145120"/>
            <a:ext cx="5184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3274920" y="2552400"/>
            <a:ext cx="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3274920" y="2552760"/>
            <a:ext cx="5184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8459640" y="2552760"/>
            <a:ext cx="0" cy="2573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835280" y="49417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692360" y="537372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агетная рамка 1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32000" y="792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ту Тоше 10 лет, и он в 5 раз старше кота Малыша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рез сколько лет Малышу будет 10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143000" y="142884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?id=263217271-2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484280"/>
            <a:ext cx="2436840" cy="1738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i?id=462080658-65-72"/>
          <p:cNvPicPr/>
          <p:nvPr/>
        </p:nvPicPr>
        <p:blipFill>
          <a:blip r:embed="rId3"/>
          <a:stretch/>
        </p:blipFill>
        <p:spPr>
          <a:xfrm>
            <a:off x="7308720" y="3429000"/>
            <a:ext cx="1505160" cy="2016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3565800" y="5929200"/>
            <a:ext cx="201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69236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решений имеет ребу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87280" y="1413000"/>
            <a:ext cx="77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81bd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4f6228"/>
                </a:solidFill>
                <a:latin typeface="Century Schoolbook"/>
              </a:rPr>
              <a:t>КЕН + Г = УР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187280" y="253368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727280" y="3151080"/>
            <a:ext cx="669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98 + 4 = 202                   295 + 8 = 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98 + 5 = 303                   194 + 8 = 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98 + 6 = 404                   197 + 5 = 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98 + 7 = 505                   297 + 6 = 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95 + 7 = 202                   497 + 8 = 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195640" y="59371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0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332000" y="31680"/>
            <a:ext cx="772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ва отца и два сына поймали трех зайцев, каждый по одному. Как это могло бы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?id=45522286-68-72"/>
          <p:cNvPicPr/>
          <p:nvPr/>
        </p:nvPicPr>
        <p:blipFill>
          <a:blip r:embed="rId1"/>
          <a:stretch/>
        </p:blipFill>
        <p:spPr>
          <a:xfrm>
            <a:off x="6588000" y="2276640"/>
            <a:ext cx="2473560" cy="3311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519200" y="3213000"/>
            <a:ext cx="49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8:26:34Z</dcterms:created>
  <dc:creator>Comp</dc:creator>
  <dc:description/>
  <dc:language>en-US</dc:language>
  <cp:lastModifiedBy>Лаборант</cp:lastModifiedBy>
  <dcterms:modified xsi:type="dcterms:W3CDTF">2011-11-29T05:40:32Z</dcterms:modified>
  <cp:revision>31</cp:revision>
  <dc:subject/>
  <dc:title>Слайд 1</dc:title>
</cp:coreProperties>
</file>