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8.png" ContentType="image/png"/>
  <Override PartName="/ppt/media/image8.jpeg" ContentType="image/jpeg"/>
  <Override PartName="/ppt/media/image5.jpeg" ContentType="image/jpeg"/>
  <Override PartName="/ppt/media/image7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gif" ContentType="image/gif"/>
  <Override PartName="/ppt/media/image22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5BF-8B60-436E-8AC7-9E2BAF8D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DF1-3715-4443-8AC9-E2AC5A4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637-AF3D-4E7F-A95A-51F2C0AE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AEB-BE55-42F9-B3F8-301E8F0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E0BF-7B34-4EE5-9712-CF2E4498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092D-BD33-4F58-9C4F-0757710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FDF0-5E57-412D-9BC2-30676174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7EEA-378C-41A2-B999-515EF04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9BF-666C-404E-90F6-AF38858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79B-8C61-4DF0-8C5F-16A81F35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74E-3436-4B89-A588-FC986218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B3C-8ED5-4BDB-9B00-D14CFF2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F76-2963-45EB-B38D-AD61D30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F00-2343-425E-93F2-3950BDD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C70E-DF25-4757-BA76-B00312D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7280-EAE5-4728-9273-3C79C064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5A98-6159-4A84-A0DB-5A010D9A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88C-2F66-4072-A15E-AB7F122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FE5-AA46-4EB6-B54A-B80F3C0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5A6-2C8D-4F31-B5AA-BB3FA26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DBF-7063-4BE7-B538-8ED0A89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F48-8FD4-4D08-9CA8-454832E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EEA-FB85-430A-888C-E98B5A13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A62-5522-4695-95B5-96DF00E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CB89-02AA-4BD2-95AC-5546D38B9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F7EB-6CE5-4697-BFD9-07C775D02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shkolu.ru/club/b-u-m/file2/1788057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6;&#1075;&#1091;&#1088;&#1077;&#1094;%20&#1088;&#1072;&#1089;&#1082;&#1088;&#1072;&#1089;&#1082;&#1072;&amp;p=15&amp;img_url=ravden.3dn.ru%2FRaskraski%2FOvoschi-Frukty-Jagody%2F304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rpt=simage&amp;text=&#1087;&#1086;&#1084;&#1080;&#1076;&#1086;&#1088;%20&#1088;&#1072;&#1089;&#1082;&#1088;&#1072;&#1089;&#1082;&#1072;&amp;p=15&amp;img_url=ravden.3dn.ru%2FRaskraski%2FOvoschi-Frukty-Jagody%2F3065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icolor=orange&amp;text=&#1082;&#1086;&#1090;%20&#1088;&#1072;&#1089;&#1082;&#1088;&#1072;&#1089;&#1082;&#1072;%20&#1074;%20&#1094;&#1074;&#1077;&#1090;&#1077;&amp;p=36&amp;img_url=www.yaplakal.com%2Fuploads%2Fpreviews%2Fpost-13-1217355459762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332000" y="83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ordArt 1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327800" cy="185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0200" y="0"/>
            <a:ext cx="45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Century Schoolbook"/>
              </a:rPr>
              <a:t>«Средняя общеобразовательная школа №13 г.Караган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332000" y="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самое маленькое значение может принимать сумма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K+A+N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в ребу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232000" y="1484280"/>
            <a:ext cx="66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81200" y="2205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43210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446200" y="4019400"/>
            <a:ext cx="50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905120" y="53737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4"/>
          <p:cNvSpPr/>
          <p:nvPr/>
        </p:nvSpPr>
        <p:spPr>
          <a:xfrm>
            <a:off x="2676600" y="3860640"/>
            <a:ext cx="146376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агетная рамка 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35280" y="18900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граней бруска имеют форму четырехуголь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3652920" y="2431800"/>
            <a:ext cx="388764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3868560" y="279216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3868560" y="3008160"/>
            <a:ext cx="3888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581280" y="329544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 flipV="1">
            <a:off x="7540560" y="24318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V="1">
            <a:off x="7756560" y="27921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7469280" y="3007800"/>
            <a:ext cx="288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 flipV="1">
            <a:off x="3652560" y="3368160"/>
            <a:ext cx="21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868560" y="3727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V="1">
            <a:off x="3581280" y="3943440"/>
            <a:ext cx="2872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 flipV="1">
            <a:off x="3292560" y="380016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3292560" y="3368520"/>
            <a:ext cx="360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H="1" flipV="1">
            <a:off x="7182000" y="2863800"/>
            <a:ext cx="28728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7182000" y="2431800"/>
            <a:ext cx="35856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 flipV="1">
            <a:off x="3292560" y="2863800"/>
            <a:ext cx="388944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411280" y="486900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… гра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084560" y="32241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964200" y="250344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084560" y="358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876920" y="3584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029280" y="3008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агетная рамка 2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87280" y="2844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дней нужно было бы ходить в октябре в школу, если бы выходными днями были все числа, в которых есть четные циф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1781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3638160" y="579420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http://pomochnik.my1.ru/_pu/0/53310352.gif"/>
          <p:cNvPicPr/>
          <p:nvPr/>
        </p:nvPicPr>
        <p:blipFill>
          <a:blip r:embed="rId1"/>
          <a:stretch/>
        </p:blipFill>
        <p:spPr>
          <a:xfrm>
            <a:off x="0" y="1714680"/>
            <a:ext cx="3298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295280" y="-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ытный дрессировщик моет слона за 40 минут, а его сын за 2 часа. За сколько времени они вымоют трех слонов в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i?id=369337812-54-72"/>
          <p:cNvPicPr/>
          <p:nvPr/>
        </p:nvPicPr>
        <p:blipFill>
          <a:blip r:embed="rId1"/>
          <a:stretch/>
        </p:blipFill>
        <p:spPr>
          <a:xfrm>
            <a:off x="1071720" y="2000160"/>
            <a:ext cx="2649240" cy="280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00720" y="16430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43200" y="2571840"/>
          <a:ext cx="5429520" cy="2786040"/>
        </p:xfrm>
        <a:graphic>
          <a:graphicData uri="http://schemas.openxmlformats.org/drawingml/2006/table">
            <a:tbl>
              <a:tblPr/>
              <a:tblGrid>
                <a:gridCol w="1357560"/>
                <a:gridCol w="1285920"/>
                <a:gridCol w="278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 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/40+1/120=4/120=1/30 – значит, за 30 минут они вместе вымоют 1 слона. Для мытья 3 слонов необходимо 1час 30 мин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ресси-ров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ы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Прямоугольник 1"/>
          <p:cNvSpPr/>
          <p:nvPr/>
        </p:nvSpPr>
        <p:spPr>
          <a:xfrm>
            <a:off x="3738240" y="5794200"/>
            <a:ext cx="47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 час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187280" y="44280"/>
            <a:ext cx="77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изображе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4500720" y="2344680"/>
            <a:ext cx="3816360" cy="15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2411280" y="2344680"/>
            <a:ext cx="2089440" cy="20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 flipV="1">
            <a:off x="2411280" y="4360680"/>
            <a:ext cx="208944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500720" y="2344680"/>
            <a:ext cx="0" cy="23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2411280" y="3281400"/>
            <a:ext cx="43214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490920" y="3281400"/>
            <a:ext cx="4753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4500360" y="3929040"/>
            <a:ext cx="381636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016000" y="5445000"/>
            <a:ext cx="439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Багетная рамка 1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38200" y="18900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будет видно вместо знака вопроса, если 4 заменить на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370320" y="2400480"/>
            <a:ext cx="0" cy="20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2577600" y="240048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5621040" y="3357720"/>
            <a:ext cx="208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703920" y="2349360"/>
            <a:ext cx="0" cy="2089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2362320" y="3408480"/>
            <a:ext cx="208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08304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2577960" y="311940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3443040" y="311940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58632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3586320" y="3624120"/>
            <a:ext cx="57600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586320" y="34797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586320" y="2400480"/>
            <a:ext cx="57780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3443040" y="362412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1"/>
          <p:cNvSpPr/>
          <p:nvPr/>
        </p:nvSpPr>
        <p:spPr>
          <a:xfrm>
            <a:off x="5824440" y="2325600"/>
            <a:ext cx="698760" cy="973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6919920" y="3502080"/>
            <a:ext cx="730080" cy="865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7205760" y="4510080"/>
            <a:ext cx="0" cy="7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700360" y="5506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агетная рамка 1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258920" y="0"/>
            <a:ext cx="773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наибольшее число клеток может разрезать прямая, пересекающая этот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942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5942160" y="603720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6446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6950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7454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795960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5942160" y="394812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H="1">
            <a:off x="5942160" y="4524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5942160" y="5532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H="1">
            <a:off x="5942160" y="502776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786200" y="254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20494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049120" y="360828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5542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30592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0"/>
          <p:cNvSpPr/>
          <p:nvPr/>
        </p:nvSpPr>
        <p:spPr>
          <a:xfrm>
            <a:off x="35640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406872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2049120" y="151920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2049120" y="2095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4"/>
          <p:cNvSpPr/>
          <p:nvPr/>
        </p:nvSpPr>
        <p:spPr>
          <a:xfrm flipH="1">
            <a:off x="2049120" y="3103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5"/>
          <p:cNvSpPr/>
          <p:nvPr/>
        </p:nvSpPr>
        <p:spPr>
          <a:xfrm flipH="1">
            <a:off x="2049120" y="259884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619280" y="56674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51 - Ольга Андреевна Бельская"/>
          <p:cNvPicPr/>
          <p:nvPr/>
        </p:nvPicPr>
        <p:blipFill>
          <a:blip r:embed="rId1"/>
          <a:stretch/>
        </p:blipFill>
        <p:spPr>
          <a:xfrm>
            <a:off x="6858000" y="1214280"/>
            <a:ext cx="16905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522440" y="0"/>
            <a:ext cx="762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раст человека в 1998 году равен сумме цифр года рождения. Сколько ему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47640" y="18032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512720" y="2511360"/>
            <a:ext cx="4572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ловек родился в …. году и в 1998 году ему исполнилось … лет 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……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=18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3103920" y="5516640"/>
            <a:ext cx="30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6143760" y="135720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260360" y="-65160"/>
            <a:ext cx="78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фигуры, составленной из квадратов, равен 6. Чему будет равна ее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30364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52728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1079640" y="249228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352728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079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4751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3527280" y="249084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303280" y="141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>
            <a:off x="352728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107964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30364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2303280" y="465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303280" y="249228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H="1">
            <a:off x="2303280" y="357336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303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3527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4859280" y="12272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1731960" y="56610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2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258920" y="126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9 одинаковых книг стоят меньше 10 рублей, а 10 таких же книг стоят больше 11 рублей. Сколько стоит одна кн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?id=390508314-42-72"/>
          <p:cNvPicPr/>
          <p:nvPr/>
        </p:nvPicPr>
        <p:blipFill>
          <a:blip r:embed="rId1"/>
          <a:stretch/>
        </p:blipFill>
        <p:spPr>
          <a:xfrm>
            <a:off x="1357200" y="1357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i?id=498143546-22-72"/>
          <p:cNvPicPr/>
          <p:nvPr/>
        </p:nvPicPr>
        <p:blipFill>
          <a:blip r:embed="rId2"/>
          <a:stretch/>
        </p:blipFill>
        <p:spPr>
          <a:xfrm>
            <a:off x="6894360" y="5357880"/>
            <a:ext cx="2249640" cy="1500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3995640" y="17496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 flipH="1">
            <a:off x="3203640" y="5877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500280" y="2357280"/>
            <a:ext cx="48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усть 1 книга стоит 1руб. 11коп., тогда 9 книг будут стоить 9руб. 99коп., а 10 книг будут стоить 11руб. 10 коп. Полученные значения удовлетворяют услов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404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58920" y="0"/>
            <a:ext cx="77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аня написала на листке бумаги двузначное число. Когда она повернула листок вверх ногами, число уменьшилось на 12. Какое число написала Та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052720" y="4338720"/>
            <a:ext cx="684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исло ……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.к. 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03280" y="3338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25 - Библиотечка учителя математ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1785960"/>
            <a:ext cx="2500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258920" y="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елимое в 6 раз больше делителя, а делитель в 6 раз больше частного. Чему равен дели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58920" y="1557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349280" y="2563920"/>
            <a:ext cx="7596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делимое в 6 раз больше делителя, а делитель в 6 раз больше частного, то делимое больше частного в 3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224080" y="52894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2" descr="Без названия - Людмила Павловна Путилина"/>
          <p:cNvPicPr/>
          <p:nvPr/>
        </p:nvPicPr>
        <p:blipFill>
          <a:blip r:embed="rId1"/>
          <a:stretch/>
        </p:blipFill>
        <p:spPr>
          <a:xfrm>
            <a:off x="6929280" y="1428840"/>
            <a:ext cx="1630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му равна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фигуры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AE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если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 15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в. см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= 12 кв. см,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E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 кв.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676600" y="1701720"/>
            <a:ext cx="439236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181320" y="2133360"/>
            <a:ext cx="388764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7068960" y="2133360"/>
            <a:ext cx="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V="1">
            <a:off x="3181320" y="3789360"/>
            <a:ext cx="388944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 flipH="1" flipV="1">
            <a:off x="7068600" y="2133360"/>
            <a:ext cx="1800" cy="1655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 flipV="1">
            <a:off x="2676600" y="1701360"/>
            <a:ext cx="50472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0547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771640" y="393372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282096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305080" y="148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714204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0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763640" y="39765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2484360" y="6165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403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сположите в порядке 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76360" y="1916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5%, 2/3, 1/3, 45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33200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122560" y="494172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420920" y="11592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ши ребу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438280" y="1611360"/>
            <a:ext cx="56167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921120" y="2055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H="1">
            <a:off x="3693960" y="22716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81480" y="227160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557520" y="29192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Р Ы Б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705120" y="29192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506600" y="330840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122560" y="5589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411280" y="4365720"/>
            <a:ext cx="20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2411280" y="4869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2195640" y="4869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050920" y="50133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979640" y="5661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14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агетная рамка 21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258920" y="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с помощью бидонов емкостью 5л и 8л отлить из молочной цистерны 7л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3600360" y="138744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i?id=428644431-52-72"/>
          <p:cNvPicPr/>
          <p:nvPr/>
        </p:nvPicPr>
        <p:blipFill>
          <a:blip r:embed="rId1"/>
          <a:stretch/>
        </p:blipFill>
        <p:spPr>
          <a:xfrm>
            <a:off x="1403280" y="1628640"/>
            <a:ext cx="1290600" cy="172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_19130343"/>
          <p:cNvPicPr/>
          <p:nvPr/>
        </p:nvPicPr>
        <p:blipFill>
          <a:blip r:embed="rId2"/>
          <a:stretch/>
        </p:blipFill>
        <p:spPr>
          <a:xfrm>
            <a:off x="7070760" y="1214280"/>
            <a:ext cx="2073240" cy="2592720"/>
          </a:xfrm>
          <a:prstGeom prst="rect">
            <a:avLst/>
          </a:prstGeom>
          <a:ln w="0">
            <a:noFill/>
          </a:ln>
        </p:spPr>
      </p:pic>
      <p:sp>
        <p:nvSpPr>
          <p:cNvPr id="343" name="Line 21"/>
          <p:cNvSpPr/>
          <p:nvPr/>
        </p:nvSpPr>
        <p:spPr>
          <a:xfrm>
            <a:off x="4105440" y="2916360"/>
            <a:ext cx="0" cy="32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28624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50088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4105440" y="3276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4105440" y="3637080"/>
            <a:ext cx="23954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4105440" y="3997440"/>
            <a:ext cx="23954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071960" y="4357800"/>
            <a:ext cx="24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 flipV="1">
            <a:off x="4105440" y="4714920"/>
            <a:ext cx="239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4105440" y="5071680"/>
            <a:ext cx="23954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4105440" y="5429160"/>
            <a:ext cx="2395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4143240" y="5786280"/>
            <a:ext cx="23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2"/>
          <p:cNvSpPr/>
          <p:nvPr/>
        </p:nvSpPr>
        <p:spPr>
          <a:xfrm flipV="1">
            <a:off x="4105440" y="6143400"/>
            <a:ext cx="23954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4105440" y="2916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71960" y="2916360"/>
            <a:ext cx="1214280" cy="39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5286240" y="2928960"/>
            <a:ext cx="1214640" cy="357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агетная рамка 3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1511280" y="142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число стоит на 50 месте в представленном ря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187280" y="1544760"/>
            <a:ext cx="79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Century Schoolbook"/>
              </a:rPr>
              <a:t>1,2,2,3,3,3,4,4,4,4,5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43280" y="256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332000" y="3429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1,2,2,3,3,3,4,4,4,4,5,5,5,5,5,6,6,6,6,6,6,7,7,7,7,7,7,7,8,8,8,8,8,8,8,8,9,9,9,9,9,9,9,9,9,10,10,10,10,10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133720" y="595008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258920" y="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азличных результатов можно получить, складывая по два числа из наб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584360" y="148428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, 2, 3, 4,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28840" y="2276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1877760" y="595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…..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386000" y="1285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бассейна на рисунке равен 60 м. Какова его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2916360" y="161136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6084720" y="161136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916360" y="1611360"/>
            <a:ext cx="0" cy="1368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916360" y="297972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4500720" y="297972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4500720" y="377208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6084720" y="2403360"/>
            <a:ext cx="1582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7667640" y="2403360"/>
            <a:ext cx="0" cy="136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 flipV="1">
            <a:off x="4500720" y="2690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579600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5508720" y="2403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521964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64328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493236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 flipV="1">
            <a:off x="4500720" y="240336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4427640" y="1467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 flipV="1">
            <a:off x="363528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370836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V="1">
            <a:off x="550872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558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4356000" y="35542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V="1">
            <a:off x="694836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702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4356000" y="348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4356000" y="341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5940360" y="197172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5940360" y="204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5"/>
          <p:cNvSpPr/>
          <p:nvPr/>
        </p:nvSpPr>
        <p:spPr>
          <a:xfrm>
            <a:off x="5940360" y="2114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012000" y="38196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2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1682640" y="3311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"/>
          <p:cNvSpPr/>
          <p:nvPr/>
        </p:nvSpPr>
        <p:spPr>
          <a:xfrm>
            <a:off x="4356000" y="269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4356000" y="2619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>
            <a:off x="4356000" y="25480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1486080" y="4297320"/>
            <a:ext cx="7524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0-12∙3=24(м) – сумма трёх сторон(три шир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4:3=8(м) – ши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первого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второго прямо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х6=24(м2) – площадь общей части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96+96-24=168(м2) – площадь басс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6"/>
          <p:cNvSpPr/>
          <p:nvPr/>
        </p:nvSpPr>
        <p:spPr>
          <a:xfrm>
            <a:off x="5717520" y="5877000"/>
            <a:ext cx="30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168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3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10"/>
                            </p:stCondLst>
                            <p:childTnLst>
                              <p:par>
                                <p:cTn id="14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20"/>
                            </p:stCondLst>
                            <p:childTnLst>
                              <p:par>
                                <p:cTn id="14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30"/>
                            </p:stCondLst>
                            <p:childTnLst>
                              <p:par>
                                <p:cTn id="14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40"/>
                            </p:stCondLst>
                            <p:childTnLst>
                              <p:par>
                                <p:cTn id="14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50"/>
                            </p:stCondLst>
                            <p:childTnLst>
                              <p:par>
                                <p:cTn id="14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60"/>
                            </p:stCondLst>
                            <p:childTnLst>
                              <p:par>
                                <p:cTn id="14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70"/>
                            </p:stCondLst>
                            <p:childTnLst>
                              <p:par>
                                <p:cTn id="14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80"/>
                            </p:stCondLst>
                            <p:childTnLst>
                              <p:par>
                                <p:cTn id="14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90"/>
                            </p:stCondLst>
                            <p:childTnLst>
                              <p:par>
                                <p:cTn id="14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49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110"/>
                            </p:stCondLst>
                            <p:childTnLst>
                              <p:par>
                                <p:cTn id="15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120"/>
                            </p:stCondLst>
                            <p:childTnLst>
                              <p:par>
                                <p:cTn id="15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130"/>
                            </p:stCondLst>
                            <p:childTnLst>
                              <p:par>
                                <p:cTn id="15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140"/>
                            </p:stCondLst>
                            <p:childTnLst>
                              <p:par>
                                <p:cTn id="15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150"/>
                            </p:stCondLst>
                            <p:childTnLst>
                              <p:par>
                                <p:cTn id="15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160"/>
                            </p:stCondLst>
                            <p:childTnLst>
                              <p:par>
                                <p:cTn id="15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170"/>
                            </p:stCondLst>
                            <p:childTnLst>
                              <p:par>
                                <p:cTn id="15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180"/>
                            </p:stCondLst>
                            <p:childTnLst>
                              <p:par>
                                <p:cTn id="15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190"/>
                            </p:stCondLst>
                            <p:childTnLst>
                              <p:par>
                                <p:cTn id="15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210"/>
                            </p:stCondLst>
                            <p:childTnLst>
                              <p:par>
                                <p:cTn id="15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20"/>
                            </p:stCondLst>
                            <p:childTnLst>
                              <p:par>
                                <p:cTn id="15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230"/>
                            </p:stCondLst>
                            <p:childTnLst>
                              <p:par>
                                <p:cTn id="15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250"/>
                            </p:stCondLst>
                            <p:childTnLst>
                              <p:par>
                                <p:cTn id="15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9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270"/>
                            </p:stCondLst>
                            <p:childTnLst>
                              <p:par>
                                <p:cTn id="1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280"/>
                            </p:stCondLst>
                            <p:childTnLst>
                              <p:par>
                                <p:cTn id="1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280"/>
                            </p:stCondLst>
                            <p:childTnLst>
                              <p:par>
                                <p:cTn id="1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2290"/>
                            </p:stCondLst>
                            <p:childTnLst>
                              <p:par>
                                <p:cTn id="16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1298520" y="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йдите все числа из примера, если каждое из них читается и слева направо и справа налево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1341360" y="2004840"/>
            <a:ext cx="768600" cy="830520"/>
            <a:chOff x="1341360" y="2004840"/>
            <a:chExt cx="768600" cy="830520"/>
          </a:xfrm>
        </p:grpSpPr>
        <p:pic>
          <p:nvPicPr>
            <p:cNvPr id="409" name="AutoShape 7" descr=""/>
            <p:cNvPicPr/>
            <p:nvPr/>
          </p:nvPicPr>
          <p:blipFill>
            <a:blip r:embed="rId1"/>
            <a:stretch/>
          </p:blipFill>
          <p:spPr>
            <a:xfrm>
              <a:off x="134136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"/>
            <p:cNvSpPr/>
            <p:nvPr/>
          </p:nvSpPr>
          <p:spPr>
            <a:xfrm>
              <a:off x="1555920" y="2211480"/>
              <a:ext cx="34416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8"/>
          <p:cNvGrpSpPr/>
          <p:nvPr/>
        </p:nvGrpSpPr>
        <p:grpSpPr>
          <a:xfrm>
            <a:off x="1994040" y="2004840"/>
            <a:ext cx="761760" cy="830520"/>
            <a:chOff x="1994040" y="2004840"/>
            <a:chExt cx="761760" cy="830520"/>
          </a:xfrm>
        </p:grpSpPr>
        <p:pic>
          <p:nvPicPr>
            <p:cNvPr id="412" name="AutoShape 8" descr=""/>
            <p:cNvPicPr/>
            <p:nvPr/>
          </p:nvPicPr>
          <p:blipFill>
            <a:blip r:embed="rId2"/>
            <a:stretch/>
          </p:blipFill>
          <p:spPr>
            <a:xfrm>
              <a:off x="19940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"/>
            <p:cNvSpPr/>
            <p:nvPr/>
          </p:nvSpPr>
          <p:spPr>
            <a:xfrm>
              <a:off x="220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10"/>
          <p:cNvGrpSpPr/>
          <p:nvPr/>
        </p:nvGrpSpPr>
        <p:grpSpPr>
          <a:xfrm>
            <a:off x="3359160" y="2004840"/>
            <a:ext cx="762120" cy="830520"/>
            <a:chOff x="3359160" y="2004840"/>
            <a:chExt cx="762120" cy="830520"/>
          </a:xfrm>
        </p:grpSpPr>
        <p:pic>
          <p:nvPicPr>
            <p:cNvPr id="415" name="AutoShape 10" descr=""/>
            <p:cNvPicPr/>
            <p:nvPr/>
          </p:nvPicPr>
          <p:blipFill>
            <a:blip r:embed="rId3"/>
            <a:stretch/>
          </p:blipFill>
          <p:spPr>
            <a:xfrm>
              <a:off x="335916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10"/>
            <p:cNvSpPr/>
            <p:nvPr/>
          </p:nvSpPr>
          <p:spPr>
            <a:xfrm>
              <a:off x="357192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11"/>
          <p:cNvGrpSpPr/>
          <p:nvPr/>
        </p:nvGrpSpPr>
        <p:grpSpPr>
          <a:xfrm>
            <a:off x="4005360" y="2004840"/>
            <a:ext cx="768240" cy="830520"/>
            <a:chOff x="4005360" y="2004840"/>
            <a:chExt cx="768240" cy="830520"/>
          </a:xfrm>
        </p:grpSpPr>
        <p:pic>
          <p:nvPicPr>
            <p:cNvPr id="418" name="AutoShape 11" descr=""/>
            <p:cNvPicPr/>
            <p:nvPr/>
          </p:nvPicPr>
          <p:blipFill>
            <a:blip r:embed="rId4"/>
            <a:stretch/>
          </p:blipFill>
          <p:spPr>
            <a:xfrm>
              <a:off x="4005360" y="2004840"/>
              <a:ext cx="768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13"/>
            <p:cNvSpPr/>
            <p:nvPr/>
          </p:nvSpPr>
          <p:spPr>
            <a:xfrm>
              <a:off x="4221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12"/>
          <p:cNvGrpSpPr/>
          <p:nvPr/>
        </p:nvGrpSpPr>
        <p:grpSpPr>
          <a:xfrm>
            <a:off x="4657680" y="2004840"/>
            <a:ext cx="762120" cy="830520"/>
            <a:chOff x="4657680" y="2004840"/>
            <a:chExt cx="762120" cy="830520"/>
          </a:xfrm>
        </p:grpSpPr>
        <p:pic>
          <p:nvPicPr>
            <p:cNvPr id="421" name="AutoShape 12" descr=""/>
            <p:cNvPicPr/>
            <p:nvPr/>
          </p:nvPicPr>
          <p:blipFill>
            <a:blip r:embed="rId5"/>
            <a:stretch/>
          </p:blipFill>
          <p:spPr>
            <a:xfrm>
              <a:off x="465768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16"/>
            <p:cNvSpPr/>
            <p:nvPr/>
          </p:nvSpPr>
          <p:spPr>
            <a:xfrm>
              <a:off x="4869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13"/>
          <p:cNvGrpSpPr/>
          <p:nvPr/>
        </p:nvGrpSpPr>
        <p:grpSpPr>
          <a:xfrm>
            <a:off x="8004240" y="2004840"/>
            <a:ext cx="761760" cy="830520"/>
            <a:chOff x="8004240" y="2004840"/>
            <a:chExt cx="761760" cy="830520"/>
          </a:xfrm>
        </p:grpSpPr>
        <p:pic>
          <p:nvPicPr>
            <p:cNvPr id="424" name="AutoShape 13" descr=""/>
            <p:cNvPicPr/>
            <p:nvPr/>
          </p:nvPicPr>
          <p:blipFill>
            <a:blip r:embed="rId6"/>
            <a:stretch/>
          </p:blipFill>
          <p:spPr>
            <a:xfrm>
              <a:off x="80042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9"/>
            <p:cNvSpPr/>
            <p:nvPr/>
          </p:nvSpPr>
          <p:spPr>
            <a:xfrm>
              <a:off x="82152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14"/>
          <p:cNvGrpSpPr/>
          <p:nvPr/>
        </p:nvGrpSpPr>
        <p:grpSpPr>
          <a:xfrm>
            <a:off x="7321680" y="2004840"/>
            <a:ext cx="761760" cy="830520"/>
            <a:chOff x="7321680" y="2004840"/>
            <a:chExt cx="761760" cy="830520"/>
          </a:xfrm>
        </p:grpSpPr>
        <p:pic>
          <p:nvPicPr>
            <p:cNvPr id="427" name="AutoShape 14" descr=""/>
            <p:cNvPicPr/>
            <p:nvPr/>
          </p:nvPicPr>
          <p:blipFill>
            <a:blip r:embed="rId7"/>
            <a:stretch/>
          </p:blipFill>
          <p:spPr>
            <a:xfrm>
              <a:off x="732168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22"/>
            <p:cNvSpPr/>
            <p:nvPr/>
          </p:nvSpPr>
          <p:spPr>
            <a:xfrm>
              <a:off x="753264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15"/>
          <p:cNvGrpSpPr/>
          <p:nvPr/>
        </p:nvGrpSpPr>
        <p:grpSpPr>
          <a:xfrm>
            <a:off x="6669000" y="2004840"/>
            <a:ext cx="768600" cy="830520"/>
            <a:chOff x="6669000" y="2004840"/>
            <a:chExt cx="768600" cy="830520"/>
          </a:xfrm>
        </p:grpSpPr>
        <p:pic>
          <p:nvPicPr>
            <p:cNvPr id="430" name="AutoShape 15" descr=""/>
            <p:cNvPicPr/>
            <p:nvPr/>
          </p:nvPicPr>
          <p:blipFill>
            <a:blip r:embed="rId8"/>
            <a:stretch/>
          </p:blipFill>
          <p:spPr>
            <a:xfrm>
              <a:off x="66690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5"/>
            <p:cNvSpPr/>
            <p:nvPr/>
          </p:nvSpPr>
          <p:spPr>
            <a:xfrm>
              <a:off x="688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AutoShape 16"/>
          <p:cNvGrpSpPr/>
          <p:nvPr/>
        </p:nvGrpSpPr>
        <p:grpSpPr>
          <a:xfrm>
            <a:off x="6022800" y="2004840"/>
            <a:ext cx="768600" cy="830520"/>
            <a:chOff x="6022800" y="2004840"/>
            <a:chExt cx="768600" cy="830520"/>
          </a:xfrm>
        </p:grpSpPr>
        <p:pic>
          <p:nvPicPr>
            <p:cNvPr id="433" name="AutoShape 16" descr=""/>
            <p:cNvPicPr/>
            <p:nvPr/>
          </p:nvPicPr>
          <p:blipFill>
            <a:blip r:embed="rId9"/>
            <a:stretch/>
          </p:blipFill>
          <p:spPr>
            <a:xfrm>
              <a:off x="60228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28"/>
            <p:cNvSpPr/>
            <p:nvPr/>
          </p:nvSpPr>
          <p:spPr>
            <a:xfrm>
              <a:off x="623736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Text Box 17"/>
          <p:cNvGrpSpPr/>
          <p:nvPr/>
        </p:nvGrpSpPr>
        <p:grpSpPr>
          <a:xfrm>
            <a:off x="2359080" y="1566720"/>
            <a:ext cx="1401840" cy="1298880"/>
            <a:chOff x="2359080" y="1566720"/>
            <a:chExt cx="1401840" cy="1298880"/>
          </a:xfrm>
        </p:grpSpPr>
        <p:pic>
          <p:nvPicPr>
            <p:cNvPr id="436" name="Text Box 17" descr=""/>
            <p:cNvPicPr/>
            <p:nvPr/>
          </p:nvPicPr>
          <p:blipFill>
            <a:blip r:embed="rId10"/>
            <a:stretch/>
          </p:blipFill>
          <p:spPr>
            <a:xfrm>
              <a:off x="2359080" y="1566720"/>
              <a:ext cx="1401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1"/>
            <p:cNvSpPr/>
            <p:nvPr/>
          </p:nvSpPr>
          <p:spPr>
            <a:xfrm>
              <a:off x="2784600" y="178452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8"/>
          <p:cNvSpPr/>
          <p:nvPr/>
        </p:nvSpPr>
        <p:spPr>
          <a:xfrm>
            <a:off x="5457960" y="1773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54944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219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356544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2"/>
          <p:cNvSpPr/>
          <p:nvPr/>
        </p:nvSpPr>
        <p:spPr>
          <a:xfrm>
            <a:off x="42148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3"/>
          <p:cNvSpPr/>
          <p:nvPr/>
        </p:nvSpPr>
        <p:spPr>
          <a:xfrm>
            <a:off x="4862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4"/>
          <p:cNvSpPr/>
          <p:nvPr/>
        </p:nvSpPr>
        <p:spPr>
          <a:xfrm>
            <a:off x="82090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5"/>
          <p:cNvSpPr/>
          <p:nvPr/>
        </p:nvSpPr>
        <p:spPr>
          <a:xfrm>
            <a:off x="752616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6"/>
          <p:cNvSpPr/>
          <p:nvPr/>
        </p:nvSpPr>
        <p:spPr>
          <a:xfrm>
            <a:off x="687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623088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2917800" y="43671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5581800" y="44388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4357800" y="4654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2917800" y="2948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Багетная рамка 2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403280" y="0"/>
            <a:ext cx="802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06 жителей города съедают 606 сосисок. 600 – с соусом, 6 без соуса. Сколько понадобится сосисок без соуса для 606 606 жителей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319252926-25-72"/>
          <p:cNvPicPr/>
          <p:nvPr/>
        </p:nvPicPr>
        <p:blipFill>
          <a:blip r:embed="rId1"/>
          <a:stretch/>
        </p:blipFill>
        <p:spPr>
          <a:xfrm>
            <a:off x="6372360" y="2060640"/>
            <a:ext cx="2593800" cy="17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1835280" y="50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006 соси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434960" y="170028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547640" y="271620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06 - 600) х (606606:606) = 6006(с.) – понадобится для 606 606 жителей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47640" y="260280"/>
            <a:ext cx="727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32000" y="-4284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 помидоров и 2 огурца весят столько же, сколько 9 помидоров и 1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тяжелее: 8 помидоров или 2 огур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?id=135913223-46-72">
            <a:hlinkClick r:id="rId1"/>
          </p:cNvPr>
          <p:cNvPicPr/>
          <p:nvPr/>
        </p:nvPicPr>
        <p:blipFill>
          <a:blip r:embed="rId2"/>
          <a:stretch/>
        </p:blipFill>
        <p:spPr>
          <a:xfrm rot="20615400">
            <a:off x="6484680" y="1332000"/>
            <a:ext cx="2533680" cy="124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i?id=260653021-60-72">
            <a:hlinkClick r:id="rId3"/>
          </p:cNvPr>
          <p:cNvPicPr/>
          <p:nvPr/>
        </p:nvPicPr>
        <p:blipFill>
          <a:blip r:embed="rId4"/>
          <a:stretch/>
        </p:blipFill>
        <p:spPr>
          <a:xfrm rot="475200">
            <a:off x="6761160" y="2936520"/>
            <a:ext cx="2290680" cy="148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143080" y="13572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428840" y="2000160"/>
            <a:ext cx="57402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.+2о.=9п.+1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убрать 5 томатов из каждой части, то получится, что 2 огурца весят столько же, сколько 4 помидора и 1 огурец .Если убрать по 1 огурцу, то получится, что 1 огурец весит столько же, сколько 4 томата. Значит 8 томатов весят столько же, сколько  2 огу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582520" y="607212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Ответ: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8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133200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аздели полтину на полов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050920" y="1989000"/>
            <a:ext cx="64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>
            <a:off x="3206520" y="51577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"/>
          <p:cNvSpPr/>
          <p:nvPr/>
        </p:nvSpPr>
        <p:spPr>
          <a:xfrm>
            <a:off x="1643760" y="184464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1476360" y="46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огда произведение чисел равно их частн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76360" y="2781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когда делитель и один из множителей равны …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58920" y="126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получится, если 2 десятка умножить на 5 десят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03280" y="1557360"/>
            <a:ext cx="72406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0 х 5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>
            <a:off x="1662840" y="49417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……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десят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8053200" cy="3786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Улыбочка"/>
          <p:cNvPicPr/>
          <p:nvPr/>
        </p:nvPicPr>
        <p:blipFill>
          <a:blip r:embed="rId2"/>
          <a:stretch/>
        </p:blipFill>
        <p:spPr>
          <a:xfrm>
            <a:off x="6000840" y="4143240"/>
            <a:ext cx="2857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19280" y="33336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85920" y="-142920"/>
            <a:ext cx="7858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зрежьте прямоугольник 16х9 на 2 части, из которых можно сложить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851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067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2829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5007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716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932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148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80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64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5796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6012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6227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6443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6659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H="1">
            <a:off x="6875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 flipH="1">
            <a:off x="7090920" y="2330280"/>
            <a:ext cx="180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3635280" y="2330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3635280" y="2546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3635280" y="2762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3635280" y="2978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H="1">
            <a:off x="3635280" y="3193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H="1">
            <a:off x="3635280" y="3409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 flipH="1">
            <a:off x="3635280" y="3625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635280" y="3841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 flipH="1">
            <a:off x="3635280" y="4057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635280" y="4273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4280" y="1285920"/>
            <a:ext cx="27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073240" y="4508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2520" y="0"/>
            <a:ext cx="763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е разрешают играть по понедельникам, пятницам и нечетным числам. Какое наибольшее число дней подряд он сможет игр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57240" y="55008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8" descr="mal"/>
          <p:cNvPicPr/>
          <p:nvPr/>
        </p:nvPicPr>
        <p:blipFill>
          <a:blip r:embed="rId1"/>
          <a:stretch/>
        </p:blipFill>
        <p:spPr>
          <a:xfrm>
            <a:off x="5416560" y="1928880"/>
            <a:ext cx="3038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403280" y="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на рисунке имеют такую же площадь как и целая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74920" y="2552760"/>
            <a:ext cx="5184720" cy="25909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274920" y="2552760"/>
            <a:ext cx="338472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6588000" y="3848040"/>
            <a:ext cx="187344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6514920" y="2552760"/>
            <a:ext cx="194436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V="1">
            <a:off x="3274920" y="2552400"/>
            <a:ext cx="324036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274920" y="3776760"/>
            <a:ext cx="5184720" cy="7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H="1" flipV="1">
            <a:off x="651528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493092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3274920" y="514512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3274920" y="2552400"/>
            <a:ext cx="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274920" y="255276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8459640" y="2552760"/>
            <a:ext cx="0" cy="257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835280" y="49417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5373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32000" y="792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ту Тоше 10 лет, и он в 5 раз старше кота Малыша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рез сколько лет Малышу будет 1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43000" y="14288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?id=263217271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436840" cy="1738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i?id=462080658-65-72"/>
          <p:cNvPicPr/>
          <p:nvPr/>
        </p:nvPicPr>
        <p:blipFill>
          <a:blip r:embed="rId3"/>
          <a:stretch/>
        </p:blipFill>
        <p:spPr>
          <a:xfrm>
            <a:off x="7308720" y="3429000"/>
            <a:ext cx="150516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565800" y="5929200"/>
            <a:ext cx="20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9236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ешений имеет реб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141300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4f6228"/>
                </a:solidFill>
                <a:latin typeface="Century Schoolbook"/>
              </a:rPr>
              <a:t>КЕН + Г = УР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25336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727280" y="315108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8 + 4 = 202                   295 + 8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8 + 5 = 303                   194 + 8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98 + 6 = 404                   197 + 5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98 + 7 = 505                   297 + 6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5 + 7 = 202                   497 + 8 = 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195640" y="59371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32000" y="31680"/>
            <a:ext cx="772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ва отца и два сына поймали трех зайцев, каждый по одному. Как это могло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?id=45522286-68-72"/>
          <p:cNvPicPr/>
          <p:nvPr/>
        </p:nvPicPr>
        <p:blipFill>
          <a:blip r:embed="rId1"/>
          <a:stretch/>
        </p:blipFill>
        <p:spPr>
          <a:xfrm>
            <a:off x="6588000" y="227664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519200" y="3213000"/>
            <a:ext cx="49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8:26:34Z</dcterms:created>
  <dc:creator>Comp</dc:creator>
  <dc:description/>
  <dc:language>en-US</dc:language>
  <cp:lastModifiedBy>Лаборант</cp:lastModifiedBy>
  <dcterms:modified xsi:type="dcterms:W3CDTF">2011-11-29T05:40:32Z</dcterms:modified>
  <cp:revision>31</cp:revision>
  <dc:subject/>
  <dc:title>Слайд 1</dc:title>
</cp:coreProperties>
</file>