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AA3-9830-463F-BE14-AE7B87E0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D54-DDCB-413D-A42F-B81CC393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DD0-CD26-4222-8FE4-E271004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D01-7D6C-4BB9-9D23-100BCD53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D67-F794-4C62-B2A3-26A4A43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07A-470B-4FB9-BD97-BA892BE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90B-EC0A-4D6C-BDFB-F019235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1C7-1612-4D2A-9015-5130C27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A99-0828-4B34-97A0-6AD6B32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59F-DEB4-4207-9E2F-4190F67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A5C-C559-4CA2-9EFA-2BD1BB89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915-6497-43C8-9F37-22AF613A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0DD2-7AE0-4D57-AB60-B78B559F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оение электронных оболоче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_1_1_L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том угле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5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5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6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6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л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8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3 элек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9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9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19051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44956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4495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07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2193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на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2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11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11464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130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35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39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49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588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каль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62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20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1066680"/>
            <a:ext cx="4724280" cy="4724640"/>
            <a:chOff x="4114800" y="1066680"/>
            <a:chExt cx="4724280" cy="4724640"/>
          </a:xfrm>
        </p:grpSpPr>
        <p:sp>
          <p:nvSpPr>
            <p:cNvPr id="172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066680"/>
              <a:ext cx="4724280" cy="4724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78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82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066680" y="1219320"/>
            <a:ext cx="7772400" cy="4345920"/>
            <a:chOff x="1066680" y="1219320"/>
            <a:chExt cx="7772400" cy="4345920"/>
          </a:xfrm>
        </p:grpSpPr>
        <p:sp>
          <p:nvSpPr>
            <p:cNvPr id="192" name=""/>
            <p:cNvSpPr/>
            <p:nvPr/>
          </p:nvSpPr>
          <p:spPr>
            <a:xfrm>
              <a:off x="80773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773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0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510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920" y="838080"/>
            <a:ext cx="6705360" cy="4648320"/>
            <a:chOff x="304920" y="838080"/>
            <a:chExt cx="6705360" cy="4648320"/>
          </a:xfrm>
        </p:grpSpPr>
        <p:sp>
          <p:nvSpPr>
            <p:cNvPr id="202" name=""/>
            <p:cNvSpPr/>
            <p:nvPr/>
          </p:nvSpPr>
          <p:spPr>
            <a:xfrm>
              <a:off x="3049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83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06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ион  каль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13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57200" y="3505320"/>
            <a:ext cx="339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ложительно заряженный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2514600"/>
            <a:ext cx="7048440" cy="2514600"/>
            <a:chOff x="0" y="2514600"/>
            <a:chExt cx="7048440" cy="2514600"/>
          </a:xfrm>
        </p:grpSpPr>
        <p:sp>
          <p:nvSpPr>
            <p:cNvPr id="220" name=""/>
            <p:cNvSpPr/>
            <p:nvPr/>
          </p:nvSpPr>
          <p:spPr>
            <a:xfrm>
              <a:off x="628668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8120" y="1460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" y="3886200"/>
            <a:ext cx="440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-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43040" y="1905120"/>
            <a:ext cx="7448400" cy="3047760"/>
            <a:chOff x="743040" y="1905120"/>
            <a:chExt cx="7448400" cy="3047760"/>
          </a:xfrm>
        </p:grpSpPr>
        <p:sp>
          <p:nvSpPr>
            <p:cNvPr id="233" name=""/>
            <p:cNvSpPr/>
            <p:nvPr/>
          </p:nvSpPr>
          <p:spPr>
            <a:xfrm>
              <a:off x="60390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76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876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8668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78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040" y="44956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76240" y="1219320"/>
            <a:ext cx="7962840" cy="4365000"/>
            <a:chOff x="876240" y="1219320"/>
            <a:chExt cx="7962840" cy="4365000"/>
          </a:xfrm>
        </p:grpSpPr>
        <p:sp>
          <p:nvSpPr>
            <p:cNvPr id="243" name=""/>
            <p:cNvSpPr/>
            <p:nvPr/>
          </p:nvSpPr>
          <p:spPr>
            <a:xfrm>
              <a:off x="80773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73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668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900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510552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54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тион маг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61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33526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ложи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2514600"/>
            <a:ext cx="7010280" cy="2514600"/>
            <a:chOff x="0" y="2514600"/>
            <a:chExt cx="7010280" cy="2514600"/>
          </a:xfrm>
        </p:grpSpPr>
        <p:sp>
          <p:nvSpPr>
            <p:cNvPr id="268" name=""/>
            <p:cNvSpPr/>
            <p:nvPr/>
          </p:nvSpPr>
          <p:spPr>
            <a:xfrm>
              <a:off x="62485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272" name=""/>
            <p:cNvSpPr/>
            <p:nvPr/>
          </p:nvSpPr>
          <p:spPr>
            <a:xfrm>
              <a:off x="4838760" y="299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7680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448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2-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лор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61960"/>
            <a:ext cx="3428640" cy="1295640"/>
            <a:chOff x="762120" y="2361960"/>
            <a:chExt cx="3428640" cy="1295640"/>
          </a:xfrm>
        </p:grpSpPr>
        <p:sp>
          <p:nvSpPr>
            <p:cNvPr id="295" name=""/>
            <p:cNvSpPr/>
            <p:nvPr/>
          </p:nvSpPr>
          <p:spPr>
            <a:xfrm>
              <a:off x="1113840" y="2819520"/>
              <a:ext cx="307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личество протонов в ядр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62120" y="2361960"/>
              <a:ext cx="791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339084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Verdana"/>
              </a:rPr>
              <a:t>Отрица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02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306" name=""/>
            <p:cNvSpPr/>
            <p:nvPr/>
          </p:nvSpPr>
          <p:spPr>
            <a:xfrm>
              <a:off x="485784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676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2968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5808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448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91456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4880" y="1238400"/>
            <a:ext cx="8134200" cy="4345920"/>
            <a:chOff x="704880" y="1238400"/>
            <a:chExt cx="8134200" cy="4345920"/>
          </a:xfrm>
        </p:grpSpPr>
        <p:sp>
          <p:nvSpPr>
            <p:cNvPr id="318" name=""/>
            <p:cNvSpPr/>
            <p:nvPr/>
          </p:nvSpPr>
          <p:spPr>
            <a:xfrm>
              <a:off x="8077320" y="3219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880" y="50482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77320" y="2914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123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81760" y="123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1430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240" y="388620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7+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2420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1219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335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кс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66320" y="2361960"/>
            <a:ext cx="2972160" cy="1295640"/>
            <a:chOff x="1066320" y="2361960"/>
            <a:chExt cx="2972160" cy="1295640"/>
          </a:xfrm>
        </p:grpSpPr>
        <p:sp>
          <p:nvSpPr>
            <p:cNvPr id="342" name=""/>
            <p:cNvSpPr/>
            <p:nvPr/>
          </p:nvSpPr>
          <p:spPr>
            <a:xfrm>
              <a:off x="137160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Число протонов в яд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06632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28560" y="3429000"/>
            <a:ext cx="232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5335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2193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6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8+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096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95320" y="1905120"/>
            <a:ext cx="7277040" cy="3124080"/>
            <a:chOff x="895320" y="1905120"/>
            <a:chExt cx="7277040" cy="3124080"/>
          </a:xfrm>
        </p:grpSpPr>
        <p:sp>
          <p:nvSpPr>
            <p:cNvPr id="356" name=""/>
            <p:cNvSpPr/>
            <p:nvPr/>
          </p:nvSpPr>
          <p:spPr>
            <a:xfrm>
              <a:off x="483876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060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90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532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540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060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196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66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Ахметов Марат Анварович</cp:lastModifiedBy>
  <dcterms:modified xsi:type="dcterms:W3CDTF">2003-04-03T07:44:59Z</dcterms:modified>
  <cp:revision>69</cp:revision>
  <dc:subject/>
  <dc:title>electron shells</dc:title>
</cp:coreProperties>
</file>